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2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105-87C9-4E6B-86DD-62BE8C7A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EC7-F566-44A5-9399-49C3623B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272-1493-4792-8B34-937E4A02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8E7-E4DF-4FD3-8EE6-F2B4FBAF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EAA2-037B-4A83-8620-1E76F4A4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77F5-AB97-4397-8D9F-15704FFB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2F9C-DD64-471E-B4A3-DFA3CE2A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77E4-ABC7-45E2-8057-2109368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D2A9-7F7B-40D6-8FEC-0AF7B140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1783-8D78-4189-B2B7-2EEA84CA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671-B9C9-4F30-8B8D-D20A95E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A53-3903-4D7D-BA93-9BCEB7B7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5C97-C72F-469C-A808-B854DC77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DA2-8E60-4385-8F35-381E158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2E0A-BF32-43EE-BDFE-F9F7C84C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B0EC-CA21-490D-916B-35A9CBF3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2CF9-65B4-492E-90AD-A3FDF426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56D-8327-4C0E-A1E8-A6D2D145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754-33BB-4F6D-B4B0-BAE35DF8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F17-07C1-4670-A6E0-DABC92C5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9DE-119E-4F86-8951-1593A15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105-4C9F-457A-AABE-24ED0C5F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951-E16E-4477-833E-F96F0FB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C74-C42C-405D-929D-133FC65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E42-455D-47A2-92B8-079F84E66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30AE-15C7-43F6-B9E7-0747602DD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98520" y="914400"/>
            <a:ext cx="85168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odule 4 Unit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 was very n</a:t>
            </a: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er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vou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68200" y="671400"/>
            <a:ext cx="755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   ) 1. I ___ to a concert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go       B. went   C. go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   ) 2. I played in the concert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this year       B. last yea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   ) 3. I didn’t___ football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played      B. playing  C.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   ) 4.  We ____  a good time las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. had    B. have    C.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82320" y="12193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82320" y="2286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82320" y="44956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30040" y="152280"/>
            <a:ext cx="386424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62673"/>
                </a:solidFill>
                <a:latin typeface="Times New Roman"/>
              </a:rPr>
              <a:t>Read and cho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06360" y="3429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"/>
          <p:cNvSpPr/>
          <p:nvPr/>
        </p:nvSpPr>
        <p:spPr>
          <a:xfrm>
            <a:off x="1143000" y="1428840"/>
            <a:ext cx="48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’s  rete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" descr="u=2616227547,1717637032&amp;fm=21&amp;gp=0"/>
          <p:cNvPicPr/>
          <p:nvPr/>
        </p:nvPicPr>
        <p:blipFill>
          <a:blip r:embed="rId2"/>
          <a:stretch/>
        </p:blipFill>
        <p:spPr>
          <a:xfrm>
            <a:off x="5572080" y="214200"/>
            <a:ext cx="3257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835280" y="115920"/>
            <a:ext cx="4752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195640" y="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played in a concert 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900000" y="981000"/>
            <a:ext cx="3024360" cy="581400"/>
            <a:chOff x="900000" y="981000"/>
            <a:chExt cx="3024360" cy="581400"/>
          </a:xfrm>
        </p:grpSpPr>
        <p:sp>
          <p:nvSpPr>
            <p:cNvPr id="147" name="Rectangle 6"/>
            <p:cNvSpPr/>
            <p:nvPr/>
          </p:nvSpPr>
          <p:spPr>
            <a:xfrm>
              <a:off x="900000" y="1052640"/>
              <a:ext cx="302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971640" y="98100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yed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5219640" y="981000"/>
            <a:ext cx="3384360" cy="581400"/>
            <a:chOff x="5219640" y="981000"/>
            <a:chExt cx="3384360" cy="581400"/>
          </a:xfrm>
        </p:grpSpPr>
        <p:sp>
          <p:nvSpPr>
            <p:cNvPr id="150" name="Rectangle 9"/>
            <p:cNvSpPr/>
            <p:nvPr/>
          </p:nvSpPr>
          <p:spPr>
            <a:xfrm>
              <a:off x="5219640" y="1052640"/>
              <a:ext cx="338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5299560" y="981000"/>
              <a:ext cx="314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as…before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826920" y="3500280"/>
            <a:ext cx="2916360" cy="1068840"/>
            <a:chOff x="826920" y="3500280"/>
            <a:chExt cx="2916360" cy="1068840"/>
          </a:xfrm>
        </p:grpSpPr>
        <p:sp>
          <p:nvSpPr>
            <p:cNvPr id="153" name="Rectangle 12"/>
            <p:cNvSpPr/>
            <p:nvPr/>
          </p:nvSpPr>
          <p:spPr>
            <a:xfrm>
              <a:off x="826920" y="3650040"/>
              <a:ext cx="2916360" cy="90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5680" y="3500280"/>
              <a:ext cx="2707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n the end everyone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4"/>
          <p:cNvGrpSpPr/>
          <p:nvPr/>
        </p:nvGrpSpPr>
        <p:grpSpPr>
          <a:xfrm>
            <a:off x="3419640" y="5373720"/>
            <a:ext cx="2376360" cy="581400"/>
            <a:chOff x="3419640" y="5373720"/>
            <a:chExt cx="2376360" cy="581400"/>
          </a:xfrm>
        </p:grpSpPr>
        <p:sp>
          <p:nvSpPr>
            <p:cNvPr id="156" name="Rectangle 15"/>
            <p:cNvSpPr/>
            <p:nvPr/>
          </p:nvSpPr>
          <p:spPr>
            <a:xfrm>
              <a:off x="3419640" y="5445000"/>
              <a:ext cx="2376360" cy="43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3475800" y="5373720"/>
              <a:ext cx="22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as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6119640" y="3933720"/>
            <a:ext cx="3024360" cy="581400"/>
            <a:chOff x="6119640" y="3933720"/>
            <a:chExt cx="3024360" cy="581400"/>
          </a:xfrm>
        </p:grpSpPr>
        <p:sp>
          <p:nvSpPr>
            <p:cNvPr id="159" name="Rectangle 18"/>
            <p:cNvSpPr/>
            <p:nvPr/>
          </p:nvSpPr>
          <p:spPr>
            <a:xfrm>
              <a:off x="6119640" y="4005360"/>
              <a:ext cx="3024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191280" y="393372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d I was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imals had a concert last week. The lion played th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4857840" y="5214960"/>
            <a:ext cx="857160" cy="13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2500200" y="4929120"/>
            <a:ext cx="1714680" cy="857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785960" y="3643200"/>
            <a:ext cx="1000080" cy="150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6"/>
          <p:cNvSpPr/>
          <p:nvPr/>
        </p:nvSpPr>
        <p:spPr>
          <a:xfrm>
            <a:off x="7643880" y="4357800"/>
            <a:ext cx="1143000" cy="71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6643800" y="2000160"/>
            <a:ext cx="2357280" cy="2000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3571920" y="4071960"/>
            <a:ext cx="1714320" cy="1071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142920" y="3643200"/>
            <a:ext cx="1071360" cy="1571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rcRect l="39682" t="0" r="0" b="0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103640" y="189000"/>
            <a:ext cx="504036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id Daming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e went to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d he g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e went there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he g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e went there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he do at the air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e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6143760" y="92880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6500880" y="24289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500880" y="39290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by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5000760" y="53578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ainted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714240" y="1143000"/>
            <a:ext cx="785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! I am  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went to ____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地点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时间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was very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714240" y="1143000"/>
            <a:ext cx="785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! I am  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went to ____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地点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_____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时间）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was very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且听风吟.mp3" descr=""/>
          <p:cNvPicPr/>
          <p:nvPr/>
        </p:nvPicPr>
        <p:blipFill>
          <a:blip r:embed="rId2"/>
          <a:stretch/>
        </p:blipFill>
        <p:spPr>
          <a:xfrm>
            <a:off x="714240" y="5500800"/>
            <a:ext cx="8575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9543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285840" y="5000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9154"/>
          <p:cNvSpPr/>
          <p:nvPr/>
        </p:nvSpPr>
        <p:spPr>
          <a:xfrm>
            <a:off x="214200" y="1357200"/>
            <a:ext cx="91440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做：听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4U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词、会背单词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作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做：尝试用英文和朋友或家人分享自己过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次经历及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4500720" cy="4797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003640" y="4437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 was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500720" y="227664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re you ha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1"/>
          <p:cNvSpPr txBox="1"/>
          <p:nvPr/>
        </p:nvSpPr>
        <p:spPr>
          <a:xfrm>
            <a:off x="755640" y="333360"/>
            <a:ext cx="6624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anklin Gothic Medium"/>
              </a:rPr>
              <a:t>What did you do on holiday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5" descr="QQ图片20180403101509.jpg"/>
          <p:cNvPicPr/>
          <p:nvPr/>
        </p:nvPicPr>
        <p:blipFill>
          <a:blip r:embed="rId1"/>
          <a:stretch/>
        </p:blipFill>
        <p:spPr>
          <a:xfrm>
            <a:off x="1428840" y="142920"/>
            <a:ext cx="5951520" cy="4429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1071720" y="48578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they fe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143000" y="571500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feel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nerv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224000" cy="136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843280" y="1484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 was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happy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129708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3"/>
          <a:srcRect l="0" t="5506" r="0" b="0"/>
          <a:stretch/>
        </p:blipFill>
        <p:spPr>
          <a:xfrm>
            <a:off x="826920" y="4869000"/>
            <a:ext cx="1368720" cy="1439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2987640" y="3141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 was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sad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03640" y="5229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 was 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</a:rPr>
              <a:t>angry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500040" y="42876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714240" y="1643040"/>
            <a:ext cx="721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论自己的经历及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your own experiences and feeling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14280" y="2143080"/>
            <a:ext cx="6242040" cy="4238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928800" y="57168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id you play, A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14200" y="1429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ch and 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形标注 6"/>
          <p:cNvSpPr/>
          <p:nvPr/>
        </p:nvSpPr>
        <p:spPr>
          <a:xfrm>
            <a:off x="1000080" y="2000160"/>
            <a:ext cx="5143680" cy="4357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1143000" y="12859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played the pi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214200" y="21420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ma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42920" y="14288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 you play, Amy?                                     A:  Last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14200" y="242892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 you play, Amy?                                     B: I played in a conc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0" y="3571920"/>
            <a:ext cx="9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 you feel before the concert, Amy?    C: I was  happy. And I was very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ro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14200" y="4643280"/>
            <a:ext cx="89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did you feel in the end, Amy?                       D: I was  very nerv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"/>
          <p:cNvSpPr/>
          <p:nvPr/>
        </p:nvSpPr>
        <p:spPr>
          <a:xfrm>
            <a:off x="3000240" y="1643040"/>
            <a:ext cx="2286000" cy="100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1"/>
          <p:cNvSpPr/>
          <p:nvPr/>
        </p:nvSpPr>
        <p:spPr>
          <a:xfrm flipV="1">
            <a:off x="3000240" y="1643040"/>
            <a:ext cx="2286000" cy="100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4"/>
          <p:cNvSpPr/>
          <p:nvPr/>
        </p:nvSpPr>
        <p:spPr>
          <a:xfrm flipV="1">
            <a:off x="3643200" y="3786120"/>
            <a:ext cx="2286000" cy="100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5"/>
          <p:cNvSpPr/>
          <p:nvPr/>
        </p:nvSpPr>
        <p:spPr>
          <a:xfrm>
            <a:off x="3929040" y="3786120"/>
            <a:ext cx="2286000" cy="100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6" descr="11335848_041844.jpg"/>
          <p:cNvPicPr/>
          <p:nvPr/>
        </p:nvPicPr>
        <p:blipFill>
          <a:blip r:embed="rId1"/>
          <a:stretch/>
        </p:blipFill>
        <p:spPr>
          <a:xfrm>
            <a:off x="142920" y="79200"/>
            <a:ext cx="9001080" cy="67788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dw7sh2lmfqacpu4.jpg"/>
          <p:cNvPicPr/>
          <p:nvPr/>
        </p:nvPicPr>
        <p:blipFill>
          <a:blip r:embed="rId2"/>
          <a:stretch/>
        </p:blipFill>
        <p:spPr>
          <a:xfrm>
            <a:off x="149400" y="214200"/>
            <a:ext cx="8994600" cy="66438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" descr="u=75159190,1517017211&amp;fm=27&amp;gp=0.jpg"/>
          <p:cNvPicPr/>
          <p:nvPr/>
        </p:nvPicPr>
        <p:blipFill>
          <a:blip r:embed="rId3"/>
          <a:stretch/>
        </p:blipFill>
        <p:spPr>
          <a:xfrm>
            <a:off x="142920" y="142920"/>
            <a:ext cx="8715240" cy="6715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9" descr="6864f308x96588a448500&amp;690.jpg"/>
          <p:cNvPicPr/>
          <p:nvPr/>
        </p:nvPicPr>
        <p:blipFill>
          <a:blip r:embed="rId4"/>
          <a:stretch/>
        </p:blipFill>
        <p:spPr>
          <a:xfrm>
            <a:off x="0" y="285840"/>
            <a:ext cx="8929800" cy="64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70905_8e9c8cf04549b34acf1anxm50eLEjJ5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14240" y="571680"/>
            <a:ext cx="80647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_____ (play) in a concert last year. I _______ (play) the piano.  I _____ (be) very n_________ before the concer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 the  e_____  , everyone _______ (clap).  I ______ (be) happy. And I ______ (be) very prou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000080" y="5716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1143000" y="11430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7072200" y="11430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3071880" y="17859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643120" y="33577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6572160" y="32860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a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786040" y="39290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857160" y="45007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0"/>
            <a:ext cx="485928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自读课文，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857160" y="5286240"/>
            <a:ext cx="3132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动词过去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3786120" y="4643280"/>
            <a:ext cx="5616720" cy="1368720"/>
          </a:xfrm>
          <a:prstGeom prst="cloudCallout">
            <a:avLst>
              <a:gd name="adj1" fmla="val -61050"/>
              <a:gd name="adj2" fmla="val 43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仿宋_GB2312"/>
              </a:rPr>
              <a:t>用在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仿宋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仿宋_GB2312"/>
              </a:rPr>
              <a:t>一般过去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Verdana"/>
                <a:ea typeface="仿宋_GB2312"/>
              </a:rPr>
              <a:t>               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  <a:ea typeface="仿宋_GB2312"/>
              </a:rPr>
              <a:t>the simple past t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3:18:02Z</dcterms:created>
  <dc:creator>SAMSUNG</dc:creator>
  <dc:description/>
  <dc:language>en-US</dc:language>
  <cp:lastModifiedBy>刘婷婷</cp:lastModifiedBy>
  <dcterms:modified xsi:type="dcterms:W3CDTF">2018-04-16T06:06:53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