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33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C8C-AA3E-4B0E-A921-8B5EED8A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9557-3580-47F8-8B14-9BD810F4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10A-4032-4F93-8B80-405B59F9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9821-88C3-417C-A4A9-D3353932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F65-45E7-46F5-A029-3B54A1B5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B79-8C1C-463D-8D6E-B7109621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66A-B065-4FEB-B7B3-D3DF6A8C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A6A0-F56D-48FF-A612-AFFF441E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C88F-B91B-407D-A4A1-7DE0C7F4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CAD-080E-4729-A357-4DF54041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F0C-FD40-4A16-9D9E-04EF1446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A63-A0CA-41D0-AD2F-DF7BA147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090A-ECE1-42C9-870F-567B26F7D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8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8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at"/>
          <p:cNvPicPr/>
          <p:nvPr/>
        </p:nvPicPr>
        <p:blipFill>
          <a:blip r:embed="rId1"/>
          <a:srcRect l="0" t="3877" r="0" b="16055"/>
          <a:stretch/>
        </p:blipFill>
        <p:spPr>
          <a:xfrm>
            <a:off x="0" y="1676520"/>
            <a:ext cx="9144000" cy="47242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42" name="Text Box 3"/>
          <p:cNvSpPr/>
          <p:nvPr/>
        </p:nvSpPr>
        <p:spPr>
          <a:xfrm>
            <a:off x="0" y="0"/>
            <a:ext cx="25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533520"/>
            <a:ext cx="9144000" cy="6426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189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vision of Module 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62120" y="114300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581280" y="64911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长海县小长山乡中心小学  吴巧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3" descr="842488_164425099795_2"/>
          <p:cNvPicPr/>
          <p:nvPr/>
        </p:nvPicPr>
        <p:blipFill>
          <a:blip r:embed="rId1"/>
          <a:stretch/>
        </p:blipFill>
        <p:spPr>
          <a:xfrm>
            <a:off x="3429000" y="3352680"/>
            <a:ext cx="1447920" cy="1086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7"/>
          <p:cNvSpPr/>
          <p:nvPr/>
        </p:nvSpPr>
        <p:spPr>
          <a:xfrm>
            <a:off x="3276720" y="3352680"/>
            <a:ext cx="1828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5" descr="20081119181448347_2"/>
          <p:cNvPicPr/>
          <p:nvPr/>
        </p:nvPicPr>
        <p:blipFill>
          <a:blip r:embed="rId2"/>
          <a:stretch/>
        </p:blipFill>
        <p:spPr>
          <a:xfrm>
            <a:off x="3200400" y="4343400"/>
            <a:ext cx="186696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1" descr="235098-1305150J04766"/>
          <p:cNvPicPr/>
          <p:nvPr/>
        </p:nvPicPr>
        <p:blipFill>
          <a:blip r:embed="rId3"/>
          <a:stretch/>
        </p:blipFill>
        <p:spPr>
          <a:xfrm>
            <a:off x="533520" y="914400"/>
            <a:ext cx="1523880" cy="1177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8" descr="http://img.taopic.com/uploads/allimg/130605/240478-1306050A02079.jpg"/>
          <p:cNvPicPr/>
          <p:nvPr/>
        </p:nvPicPr>
        <p:blipFill>
          <a:blip r:embed="rId4"/>
          <a:stretch/>
        </p:blipFill>
        <p:spPr>
          <a:xfrm>
            <a:off x="304920" y="3200400"/>
            <a:ext cx="1981080" cy="1308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0" descr="http://img0.imgtn.bdimg.com/it/u=3970948361,2113704971&amp;fm=23&amp;gp=0.jpg"/>
          <p:cNvPicPr/>
          <p:nvPr/>
        </p:nvPicPr>
        <p:blipFill>
          <a:blip r:embed="rId5"/>
          <a:stretch/>
        </p:blipFill>
        <p:spPr>
          <a:xfrm>
            <a:off x="228600" y="2057400"/>
            <a:ext cx="2176560" cy="1066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2" descr="http://img4.imgtn.bdimg.com/it/u=3488260068,2188501658&amp;fm=21&amp;gp=0.jpg"/>
          <p:cNvPicPr/>
          <p:nvPr/>
        </p:nvPicPr>
        <p:blipFill>
          <a:blip r:embed="rId6"/>
          <a:stretch/>
        </p:blipFill>
        <p:spPr>
          <a:xfrm>
            <a:off x="228600" y="4572000"/>
            <a:ext cx="198108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380880" y="304920"/>
          <a:ext cx="8458200" cy="5351400"/>
        </p:xfrm>
        <a:graphic>
          <a:graphicData uri="http://schemas.openxmlformats.org/drawingml/2006/table">
            <a:tbl>
              <a:tblPr/>
              <a:tblGrid>
                <a:gridCol w="2057400"/>
                <a:gridCol w="3581640"/>
                <a:gridCol w="281916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imal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d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2 hours/day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 hours/day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 hours/day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6 hours/day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50"/>
          <p:cNvSpPr/>
          <p:nvPr/>
        </p:nvSpPr>
        <p:spPr>
          <a:xfrm>
            <a:off x="6095880" y="4648320"/>
            <a:ext cx="26672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6"/>
          <p:cNvSpPr/>
          <p:nvPr/>
        </p:nvSpPr>
        <p:spPr>
          <a:xfrm>
            <a:off x="6172200" y="236232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8"/>
          <p:cNvSpPr/>
          <p:nvPr/>
        </p:nvSpPr>
        <p:spPr>
          <a:xfrm>
            <a:off x="6095880" y="350532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5"/>
          <p:cNvSpPr/>
          <p:nvPr/>
        </p:nvSpPr>
        <p:spPr>
          <a:xfrm>
            <a:off x="0" y="2133720"/>
            <a:ext cx="914400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04920" y="58672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ove…      They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eat for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… hours a day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7" descr="u=1529800349,3739954914&amp;fm=23&amp;gp=0"/>
          <p:cNvPicPr/>
          <p:nvPr/>
        </p:nvPicPr>
        <p:blipFill>
          <a:blip r:embed="rId7"/>
          <a:stretch/>
        </p:blipFill>
        <p:spPr>
          <a:xfrm>
            <a:off x="2971800" y="2362320"/>
            <a:ext cx="1157400" cy="71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9" descr="u=364430890,2573202708&amp;fm=21&amp;gp=0"/>
          <p:cNvPicPr/>
          <p:nvPr/>
        </p:nvPicPr>
        <p:blipFill>
          <a:blip r:embed="rId8"/>
          <a:stretch/>
        </p:blipFill>
        <p:spPr>
          <a:xfrm>
            <a:off x="4343400" y="2286000"/>
            <a:ext cx="1214280" cy="836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5"/>
          <p:cNvSpPr/>
          <p:nvPr/>
        </p:nvSpPr>
        <p:spPr>
          <a:xfrm>
            <a:off x="2743200" y="2286000"/>
            <a:ext cx="2971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2819520" y="4572000"/>
            <a:ext cx="27432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47a0fb7fcdfd354f29388af5"/>
          <p:cNvPicPr/>
          <p:nvPr/>
        </p:nvPicPr>
        <p:blipFill>
          <a:blip r:embed="rId9"/>
          <a:srcRect l="18189" t="0" r="0" b="0"/>
          <a:stretch/>
        </p:blipFill>
        <p:spPr>
          <a:xfrm>
            <a:off x="3429000" y="990720"/>
            <a:ext cx="1366920" cy="1143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5"/>
          <p:cNvSpPr/>
          <p:nvPr/>
        </p:nvSpPr>
        <p:spPr>
          <a:xfrm>
            <a:off x="0" y="3352680"/>
            <a:ext cx="914400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0" y="5562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andas love bamboo. They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ea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fo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12 hours a d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-380880" y="2971800"/>
            <a:ext cx="97534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Talk about animals’ habits  in Englis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英语谈论动物的生活习性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2286000" y="838080"/>
            <a:ext cx="4952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sk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7086600" y="5207040"/>
            <a:ext cx="1905120" cy="1650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4153902_095520041364_2"/>
          <p:cNvPicPr/>
          <p:nvPr/>
        </p:nvPicPr>
        <p:blipFill>
          <a:blip r:embed="rId3"/>
          <a:srcRect l="0" t="6666" r="37501" b="3999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304920" y="8380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述动物的生活习性通常使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般现在时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581040" y="2819520"/>
            <a:ext cx="703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描述经常或习惯发生的事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当主语是第三人称单数时，动词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当主语不是第三人称单数时，动词用原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-380880" y="2971800"/>
            <a:ext cx="97534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Talk about animals’ habits  in Englis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英语谈论动物的生活习性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2286000" y="838080"/>
            <a:ext cx="4952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sk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7086600" y="5207040"/>
            <a:ext cx="1905120" cy="1650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4153902_095520041364_2"/>
          <p:cNvPicPr/>
          <p:nvPr/>
        </p:nvPicPr>
        <p:blipFill>
          <a:blip r:embed="rId3"/>
          <a:srcRect l="0" t="6666" r="37501" b="3999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3"/>
          <p:cNvSpPr/>
          <p:nvPr/>
        </p:nvSpPr>
        <p:spPr>
          <a:xfrm>
            <a:off x="1409760" y="990720"/>
            <a:ext cx="66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语非单三形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das love bambo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eat for twelve hours a da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snakes  love music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, they don’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’re almost dea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语为单三形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hi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lee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ten hours a nigh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a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lee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sixteen hours a da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ox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lee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day and doesn’t sleep at nigh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21"/>
          <p:cNvSpPr/>
          <p:nvPr/>
        </p:nvSpPr>
        <p:spPr>
          <a:xfrm>
            <a:off x="2819520" y="5943600"/>
            <a:ext cx="761760" cy="38088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0"/>
          <p:cNvSpPr/>
          <p:nvPr/>
        </p:nvSpPr>
        <p:spPr>
          <a:xfrm>
            <a:off x="4343400" y="5562720"/>
            <a:ext cx="990720" cy="30456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1828800" y="2971800"/>
            <a:ext cx="762120" cy="304920"/>
          </a:xfrm>
          <a:prstGeom prst="ellipse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8"/>
          <p:cNvSpPr/>
          <p:nvPr/>
        </p:nvSpPr>
        <p:spPr>
          <a:xfrm>
            <a:off x="1295280" y="2514600"/>
            <a:ext cx="609840" cy="228600"/>
          </a:xfrm>
          <a:prstGeom prst="ellipse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6"/>
          <p:cNvSpPr/>
          <p:nvPr/>
        </p:nvSpPr>
        <p:spPr>
          <a:xfrm>
            <a:off x="4114800" y="1981080"/>
            <a:ext cx="762120" cy="304920"/>
          </a:xfrm>
          <a:prstGeom prst="ellipse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981080" y="0"/>
            <a:ext cx="4953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isten and say 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04920" y="1447920"/>
            <a:ext cx="80010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: What animals do you love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: I love pandas . ___________________  ________________________________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: Do you  love snakes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: Y es , I do . Look at this picture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: ______________________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: No , they don’t . ___________________.They can’t hear the music . The snake thinks the flute is dangerous , so it gets frightened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: Wow , so interesting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895480" y="19051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ndas love bamboo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57200" y="23623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y eat for twelve hours a day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09480" y="39625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snake can use its body to dance 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838080" y="44197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 snakes love music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124080" y="50292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y’re almost dea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6553080" y="1219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一般现在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6629400" y="198108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主语是第三人称单数时，动词变单三的形式（ </a:t>
            </a: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+s/e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1.mp3" descr=""/>
          <p:cNvPicPr/>
          <p:nvPr/>
        </p:nvPicPr>
        <p:blipFill>
          <a:blip r:embed="rId1"/>
          <a:stretch/>
        </p:blipFill>
        <p:spPr>
          <a:xfrm>
            <a:off x="4152960" y="62247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7" name="2.mp3" descr=""/>
          <p:cNvPicPr/>
          <p:nvPr/>
        </p:nvPicPr>
        <p:blipFill>
          <a:blip r:embed="rId2"/>
          <a:stretch/>
        </p:blipFill>
        <p:spPr>
          <a:xfrm>
            <a:off x="4838760" y="62341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8" name="3.mp3" descr=""/>
          <p:cNvPicPr/>
          <p:nvPr/>
        </p:nvPicPr>
        <p:blipFill>
          <a:blip r:embed="rId3"/>
          <a:stretch/>
        </p:blipFill>
        <p:spPr>
          <a:xfrm>
            <a:off x="5584680" y="61815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59" name="4.mp3" descr=""/>
          <p:cNvPicPr/>
          <p:nvPr/>
        </p:nvPicPr>
        <p:blipFill>
          <a:blip r:embed="rId4"/>
          <a:stretch/>
        </p:blipFill>
        <p:spPr>
          <a:xfrm>
            <a:off x="6353280" y="61340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60" name="5.mp3" descr=""/>
          <p:cNvPicPr/>
          <p:nvPr/>
        </p:nvPicPr>
        <p:blipFill>
          <a:blip r:embed="rId5"/>
          <a:stretch/>
        </p:blipFill>
        <p:spPr>
          <a:xfrm>
            <a:off x="7277040" y="61340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2544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3432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4152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2952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2424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4153902_095520041364_2"/>
          <p:cNvPicPr/>
          <p:nvPr/>
        </p:nvPicPr>
        <p:blipFill>
          <a:blip r:embed="rId1"/>
          <a:srcRect l="0" t="6666" r="37501" b="39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66680" y="533160"/>
            <a:ext cx="7315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择正确答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Simon ____  horses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 love   B. loves  C. l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 The panda  ____  bamboo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 eat   B. eats  C. 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I ______dogs are friends of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 think   B. thinks  C.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 It ____ snakes ____ the sun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 say…like   B. says…like  C. says…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286000" y="182880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133720" y="304812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143000" y="42670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895480" y="54100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4153902_095520041364_2"/>
          <p:cNvPicPr/>
          <p:nvPr/>
        </p:nvPicPr>
        <p:blipFill>
          <a:blip r:embed="rId1"/>
          <a:srcRect l="0" t="6666" r="37501" b="39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6672240" y="0"/>
            <a:ext cx="2028960" cy="1685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5715000" y="2971800"/>
            <a:ext cx="2209680" cy="1762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4"/>
          <a:stretch/>
        </p:blipFill>
        <p:spPr>
          <a:xfrm>
            <a:off x="3200400" y="5257800"/>
            <a:ext cx="1676520" cy="1368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clever mon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d is a monkey. He learned to get into cars to look for food. This time he came close to a car, opened the door and jumped in the back with a handbag. When he found noting to eat, he threw the bag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t with a 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per is a cat. He lives in Seattle, US with his owner. Cooper wears a very small camera on his neck. This camera takes photos every 2 minutes when Cooper walks a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og on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picture show the world’s fastest skateboarding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滑板）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g. This is Tillman. He is an English dog from the US. Tillman learned to skateboard at the age of 10 wee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"/>
          <p:cNvSpPr/>
          <p:nvPr/>
        </p:nvSpPr>
        <p:spPr>
          <a:xfrm>
            <a:off x="0" y="43070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and comple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d is____________. He learned ___________________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per lives __________________. When he walks around, the camera can________________________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llman is _____________. At the age of 10 weeks he ________________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3"/>
          <p:cNvSpPr/>
          <p:nvPr/>
        </p:nvSpPr>
        <p:spPr>
          <a:xfrm>
            <a:off x="152280" y="7621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5"/>
          <p:cNvSpPr/>
          <p:nvPr/>
        </p:nvSpPr>
        <p:spPr>
          <a:xfrm>
            <a:off x="1905120" y="198108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"/>
          <p:cNvSpPr/>
          <p:nvPr/>
        </p:nvSpPr>
        <p:spPr>
          <a:xfrm>
            <a:off x="2743200" y="236232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0"/>
          <p:cNvSpPr/>
          <p:nvPr/>
        </p:nvSpPr>
        <p:spPr>
          <a:xfrm>
            <a:off x="609480" y="3581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533520" y="457200"/>
            <a:ext cx="5715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: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pe :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ur: 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bi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ve: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rs:_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:__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4343400"/>
            <a:ext cx="2514600" cy="2514600"/>
          </a:xfrm>
          <a:prstGeom prst="rect">
            <a:avLst/>
          </a:prstGeom>
          <a:ln w="9360">
            <a:solidFill>
              <a:srgbClr val="6699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80" name="Text Box 7"/>
          <p:cNvSpPr/>
          <p:nvPr/>
        </p:nvSpPr>
        <p:spPr>
          <a:xfrm>
            <a:off x="228600" y="3809880"/>
            <a:ext cx="632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andas are very cute . They are fat .They’re black and white . They love bamboo . They also eat meat .They eat for 12 hours a day . And they can swim and climb the trees 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447920" y="3808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1523880" y="762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at and c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1523880" y="1219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lack and wh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1371600" y="1981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mbo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1447920" y="24382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2 hours a 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1143000" y="28954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wim and climb the tr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17"/>
          <p:cNvSpPr txBox="1"/>
          <p:nvPr/>
        </p:nvSpPr>
        <p:spPr>
          <a:xfrm>
            <a:off x="4343400" y="457200"/>
            <a:ext cx="3886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nimals' habit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/>
          <p:cNvPicPr/>
          <p:nvPr/>
        </p:nvPicPr>
        <p:blipFill>
          <a:blip r:embed="rId1"/>
          <a:srcRect l="0" t="0" r="0" b="5625"/>
          <a:stretch/>
        </p:blipFill>
        <p:spPr>
          <a:xfrm>
            <a:off x="0" y="1185840"/>
            <a:ext cx="9144000" cy="56721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7"/>
          <p:cNvSpPr/>
          <p:nvPr/>
        </p:nvSpPr>
        <p:spPr>
          <a:xfrm>
            <a:off x="1905120" y="3733920"/>
            <a:ext cx="601956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3733920" y="3505320"/>
            <a:ext cx="22096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9"/>
          <p:cNvSpPr txBox="1"/>
          <p:nvPr/>
        </p:nvSpPr>
        <p:spPr>
          <a:xfrm>
            <a:off x="2743200" y="3733920"/>
            <a:ext cx="4572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imals  are our friends 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990720" y="0"/>
            <a:ext cx="7162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o love animals is to love ourselve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z5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914400" y="1600200"/>
            <a:ext cx="82296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必做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Listen and read the tex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Copy the words and sentences 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选做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英语交流动物的生活习性，完善或制作介绍动物卡片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3" descr="4153902_095520041364_2"/>
          <p:cNvPicPr/>
          <p:nvPr/>
        </p:nvPicPr>
        <p:blipFill>
          <a:blip r:embed="rId1"/>
          <a:srcRect l="0" t="6666" r="37501" b="39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Oval 3"/>
          <p:cNvSpPr/>
          <p:nvPr/>
        </p:nvSpPr>
        <p:spPr>
          <a:xfrm>
            <a:off x="304920" y="4191120"/>
            <a:ext cx="2209680" cy="914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685800" y="2286000"/>
            <a:ext cx="22860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5562720" y="2514600"/>
            <a:ext cx="2286000" cy="990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6553080" y="3809880"/>
            <a:ext cx="20574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7010280" y="5029200"/>
            <a:ext cx="2133720" cy="9907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8"/>
          <p:cNvSpPr/>
          <p:nvPr/>
        </p:nvSpPr>
        <p:spPr>
          <a:xfrm>
            <a:off x="4267080" y="4114800"/>
            <a:ext cx="213372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9"/>
          <p:cNvSpPr/>
          <p:nvPr/>
        </p:nvSpPr>
        <p:spPr>
          <a:xfrm>
            <a:off x="380880" y="5486400"/>
            <a:ext cx="2210040" cy="99072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4724280" y="5562720"/>
            <a:ext cx="221004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514600" y="4952880"/>
            <a:ext cx="2209680" cy="99072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2895480" y="3124080"/>
            <a:ext cx="2210040" cy="9144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0983"/>
          <p:cNvSpPr/>
          <p:nvPr/>
        </p:nvSpPr>
        <p:spPr>
          <a:xfrm>
            <a:off x="1600200" y="685800"/>
            <a:ext cx="6324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nimals do you lov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love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-380880" y="2971800"/>
            <a:ext cx="97534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Talk about animals’ habits  in Englis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英语谈论动物的生活习性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2286000" y="838080"/>
            <a:ext cx="4952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sk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7086600" y="5207040"/>
            <a:ext cx="1905120" cy="1650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4153902_095520041364_2"/>
          <p:cNvPicPr/>
          <p:nvPr/>
        </p:nvPicPr>
        <p:blipFill>
          <a:blip r:embed="rId3"/>
          <a:srcRect l="0" t="6666" r="37501" b="3999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695160" y="533520"/>
            <a:ext cx="7540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4153902_095520041364_2"/>
          <p:cNvPicPr/>
          <p:nvPr/>
        </p:nvPicPr>
        <p:blipFill>
          <a:blip r:embed="rId1"/>
          <a:srcRect l="0" t="6666" r="37501" b="39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5440"/>
            <a:ext cx="1239840" cy="1239840"/>
          </a:xfrm>
          <a:prstGeom prst="rect">
            <a:avLst/>
          </a:prstGeom>
          <a:ln w="9360">
            <a:solidFill>
              <a:srgbClr val="6699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6" name="TextBox 1"/>
          <p:cNvSpPr/>
          <p:nvPr/>
        </p:nvSpPr>
        <p:spPr>
          <a:xfrm>
            <a:off x="762120" y="990720"/>
            <a:ext cx="7619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min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s watch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new DV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ls. I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 some animals.  Pandas love bamboo. They ea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welve hours a day. The snake can us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ody to dance. But they can’t hear the music. They’re almost deaf. The snak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nk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flute is dangerous, so i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ightened. A fox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leep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the da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doesn’t sleep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 nigh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What about the baby and the child? A bab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leeps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een hours a day. A child sleeps for ten hours a night. How many hours do you sleep a nigh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4"/>
          <a:stretch/>
        </p:blipFill>
        <p:spPr>
          <a:xfrm>
            <a:off x="6900840" y="88920"/>
            <a:ext cx="222552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-380880" y="2971800"/>
            <a:ext cx="97534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Talk about animals’ habits  in Englis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英语谈论动物的生活习性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2286000" y="838080"/>
            <a:ext cx="4952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sk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7086600" y="5207040"/>
            <a:ext cx="190512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4153902_095520041364_2"/>
          <p:cNvPicPr/>
          <p:nvPr/>
        </p:nvPicPr>
        <p:blipFill>
          <a:blip r:embed="rId3"/>
          <a:srcRect l="0" t="6666" r="37501" b="39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900000" y="685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you answe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457200" y="17524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animals are there in the tex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900000" y="2819520"/>
            <a:ext cx="67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re are 3 animals in the tex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413000" y="4267080"/>
            <a:ext cx="1292040" cy="1298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5"/>
          <a:stretch/>
        </p:blipFill>
        <p:spPr>
          <a:xfrm>
            <a:off x="3382920" y="4290840"/>
            <a:ext cx="2225880" cy="927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6"/>
          <a:stretch/>
        </p:blipFill>
        <p:spPr>
          <a:xfrm>
            <a:off x="6207120" y="4019400"/>
            <a:ext cx="153684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-380880" y="2971800"/>
            <a:ext cx="97534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Talk about animals’ habits  in Englis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英语谈论动物的生活习性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2286000" y="838080"/>
            <a:ext cx="4952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sk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7086600" y="5207040"/>
            <a:ext cx="1905120" cy="1650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4153902_095520041364_2"/>
          <p:cNvPicPr/>
          <p:nvPr/>
        </p:nvPicPr>
        <p:blipFill>
          <a:blip r:embed="rId3"/>
          <a:srcRect l="0" t="6666" r="37501" b="39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457200" y="17524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you talk about the panda/ snake/fox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900000" y="2505240"/>
            <a:ext cx="67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anda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snak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fox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4"/>
          <a:stretch/>
        </p:blipFill>
        <p:spPr>
          <a:xfrm>
            <a:off x="1413000" y="4267080"/>
            <a:ext cx="1292040" cy="129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5"/>
          <a:stretch/>
        </p:blipFill>
        <p:spPr>
          <a:xfrm>
            <a:off x="3382920" y="4290840"/>
            <a:ext cx="2225880" cy="92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6"/>
          <a:stretch/>
        </p:blipFill>
        <p:spPr>
          <a:xfrm>
            <a:off x="6207120" y="4019400"/>
            <a:ext cx="153684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-380880" y="2971800"/>
            <a:ext cx="97534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Talk about animals’ habits  in Englis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英语谈论动物的生活习性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286000" y="838080"/>
            <a:ext cx="4952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sk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7086600" y="5207040"/>
            <a:ext cx="1905120" cy="1650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4153902_095520041364_2"/>
          <p:cNvPicPr/>
          <p:nvPr/>
        </p:nvPicPr>
        <p:blipFill>
          <a:blip r:embed="rId3"/>
          <a:srcRect l="0" t="6666" r="37501" b="3999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304920" y="8380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hours does a child sleep a nigh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1" descr="C:\Users\pc-jdc-wql\Documents\Tencent Files\1044967457\Image\Group\5$XQK55CZ8SHATR3W`4OZ8Q.jpg"/>
          <p:cNvPicPr/>
          <p:nvPr/>
        </p:nvPicPr>
        <p:blipFill>
          <a:blip r:embed="rId4"/>
          <a:srcRect l="16618" t="21108" r="25425" b="10819"/>
          <a:stretch/>
        </p:blipFill>
        <p:spPr>
          <a:xfrm>
            <a:off x="5562720" y="3581280"/>
            <a:ext cx="2176200" cy="2175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609480" y="2503440"/>
            <a:ext cx="70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child sleeps for ten hours a nigh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-380880" y="2971800"/>
            <a:ext cx="97534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Talk about animals’ habits  in Englis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英语谈论动物的生活习性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2286000" y="838080"/>
            <a:ext cx="4952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sk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7086600" y="5207040"/>
            <a:ext cx="1905120" cy="1650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4153902_095520041364_2"/>
          <p:cNvPicPr/>
          <p:nvPr/>
        </p:nvPicPr>
        <p:blipFill>
          <a:blip r:embed="rId3"/>
          <a:srcRect l="0" t="6666" r="37501" b="3999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304920" y="8380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hours does a baby sleep a da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609480" y="2503440"/>
            <a:ext cx="70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baby sleeps for sixteen hours a da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9" descr="C:\Users\pc-jdc-wql\Documents\Tencent Files\1044967457\Image\Group\@4EUF(~@K2PP8AM6F5ZVPYD.jpg"/>
          <p:cNvPicPr/>
          <p:nvPr/>
        </p:nvPicPr>
        <p:blipFill>
          <a:blip r:embed="rId4"/>
          <a:srcRect l="20043" t="27585" r="24201" b="4357"/>
          <a:stretch/>
        </p:blipFill>
        <p:spPr>
          <a:xfrm>
            <a:off x="5413320" y="3735360"/>
            <a:ext cx="2232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4153902_095520041364_2"/>
          <p:cNvPicPr/>
          <p:nvPr/>
        </p:nvPicPr>
        <p:blipFill>
          <a:blip r:embed="rId1"/>
          <a:srcRect l="0" t="6666" r="37501" b="39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5440"/>
            <a:ext cx="1239840" cy="1239840"/>
          </a:xfrm>
          <a:prstGeom prst="rect">
            <a:avLst/>
          </a:prstGeom>
          <a:ln w="9360">
            <a:solidFill>
              <a:srgbClr val="6699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7" name="TextBox 1"/>
          <p:cNvSpPr/>
          <p:nvPr/>
        </p:nvSpPr>
        <p:spPr>
          <a:xfrm>
            <a:off x="762120" y="990720"/>
            <a:ext cx="7619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min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________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new DV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_____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ls. I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____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 some animals.  Pandas love bamboo. They ea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welve hours a day. The snake can us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ody to dance. But they can’t hear the music. They’re almost deaf. The snak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flute is dangerous, so i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ightened. A fox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_____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doesn’t sleep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What about the baby and the child? A bab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een hours a day. A child sleep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__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 hours a night. How many hours do you sleep a nigh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4"/>
          <a:stretch/>
        </p:blipFill>
        <p:spPr>
          <a:xfrm>
            <a:off x="6900840" y="88920"/>
            <a:ext cx="222552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30T00:44:33Z</dcterms:created>
  <dc:creator>Administrator</dc:creator>
  <dc:description/>
  <dc:language>en-US</dc:language>
  <cp:lastModifiedBy>pc-jdc-wql</cp:lastModifiedBy>
  <dcterms:modified xsi:type="dcterms:W3CDTF">2017-12-19T01:57:20Z</dcterms:modified>
  <cp:revision>1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5</vt:lpwstr>
  </property>
  <property fmtid="{D5CDD505-2E9C-101B-9397-08002B2CF9AE}" pid="3" name="Version">
    <vt:r8>1</vt:r8>
  </property>
</Properties>
</file>