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suction.wav" ContentType="audio/x-wav"/>
  <Override PartName="/ppt/media/image4.jpeg" ContentType="image/jpeg"/>
  <Override PartName="/ppt/media/image14.gif" ContentType="image/gif"/>
  <Override PartName="/ppt/media/type.wav" ContentType="audio/x-wav"/>
  <Override PartName="/ppt/media/chimes.wav" ContentType="audio/x-wav"/>
  <Override PartName="/ppt/media/image8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jpeg" ContentType="image/jpeg"/>
  <Override PartName="/ppt/media/hamm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FB4-63B7-42CC-A4FC-904925AE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1AD-7C8F-49E8-B9D6-216143D1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2C9-10A3-4EB9-B5C6-12206ABF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14E-40D4-42E4-AB7C-43F42C63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C21A-3D74-4420-BA73-5E0A544B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2C57-F442-485F-A805-874E6B41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1410-A3B6-49A1-BE26-7D2C3D05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5796-186E-4A7C-811C-064C62F5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AB6C-36D6-492B-9259-AEC4232C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8215-2347-4517-A4D0-EBD52A23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0492-A296-4363-801D-BC0B3559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3A7-A7C0-433E-A017-79589409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4B06-29B9-44D9-95A7-D52B98D1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464D-1AF3-455C-A1C8-0A1A498C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9442-1C1D-4F29-BB0F-2A229B72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8613-92D0-495D-9A21-50DE2105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1F96-03E7-435F-B179-7C86F64F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06D-31FB-401A-BB88-0C99197A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C7D-917C-47A0-8D26-FD68B444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CDB-A73F-4B9C-B4E5-BB3F422B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4BA-1948-4540-AFBC-0AEC97FC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B81-6DB8-427B-88A0-5C599F96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B85-8619-4EB5-8A44-3401791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032-38C3-42B9-9D49-074D0DCF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63E9-DDCB-4AC3-92E5-2BEBBD3D8E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3DEC-FE32-448B-ABD2-6AA6CDEEF0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075" descr="chr2_001"/>
          <p:cNvPicPr/>
          <p:nvPr/>
        </p:nvPicPr>
        <p:blipFill>
          <a:blip r:embed="rId1"/>
          <a:stretch/>
        </p:blipFill>
        <p:spPr>
          <a:xfrm>
            <a:off x="4429080" y="3000240"/>
            <a:ext cx="4189320" cy="3143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928800" y="1357200"/>
            <a:ext cx="657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Review Module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928800" y="292896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17409"/>
          <p:cNvSpPr/>
          <p:nvPr/>
        </p:nvSpPr>
        <p:spPr>
          <a:xfrm>
            <a:off x="1143000" y="304920"/>
            <a:ext cx="708660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ff0000"/>
                </a:solidFill>
                <a:latin typeface="Times New Roman"/>
              </a:rPr>
              <a:t>My favourite festival</a:t>
            </a:r>
            <a:r>
              <a:rPr b="1" lang="en-US" sz="4700" spc="-1" strike="noStrike">
                <a:solidFill>
                  <a:srgbClr val="ff0000"/>
                </a:solidFill>
                <a:latin typeface="Times New Roman"/>
              </a:rPr>
              <a:t> p25(6)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7410"/>
          <p:cNvSpPr/>
          <p:nvPr/>
        </p:nvSpPr>
        <p:spPr>
          <a:xfrm>
            <a:off x="30492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dragon Boat Festival</a:t>
            </a: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 is a very important festival for Chinese people.</a:t>
            </a:r>
            <a:br>
              <a:rPr sz="4000"/>
            </a:br>
            <a:r>
              <a:rPr b="1" lang="zh-CN" sz="4000" spc="-1" strike="noStrike">
                <a:solidFill>
                  <a:srgbClr val="1f497d"/>
                </a:solidFill>
                <a:latin typeface="Times New Roman"/>
              </a:rPr>
              <a:t>On th</a:t>
            </a: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is</a:t>
            </a:r>
            <a:r>
              <a:rPr b="1" lang="zh-CN" sz="4000" spc="-1" strike="noStrike">
                <a:solidFill>
                  <a:srgbClr val="1f497d"/>
                </a:solidFill>
                <a:latin typeface="Times New Roman"/>
              </a:rPr>
              <a:t> day, we</a:t>
            </a: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 eat zongzi.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We eat eggs. We fly kites.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People row the dragon boat.</a:t>
            </a:r>
            <a:br>
              <a:rPr sz="4000"/>
            </a:br>
            <a:r>
              <a:rPr b="1" lang="zh-CN" sz="4000" spc="-1" strike="noStrike">
                <a:solidFill>
                  <a:srgbClr val="1f497d"/>
                </a:solidFill>
                <a:latin typeface="Times New Roman"/>
              </a:rPr>
              <a:t>We </a:t>
            </a: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love it.</a:t>
            </a:r>
            <a:r>
              <a:rPr b="1" lang="zh-CN" sz="4000" spc="-1" strike="noStrike">
                <a:solidFill>
                  <a:srgbClr val="1f497d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every time.mp3" descr=""/>
          <p:cNvPicPr/>
          <p:nvPr/>
        </p:nvPicPr>
        <p:blipFill>
          <a:blip r:embed="rId1"/>
          <a:stretch/>
        </p:blipFill>
        <p:spPr>
          <a:xfrm>
            <a:off x="817236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Can you tell me about festival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270080"/>
          <a:ext cx="8229600" cy="4849560"/>
        </p:xfrm>
        <a:graphic>
          <a:graphicData uri="http://schemas.openxmlformats.org/drawingml/2006/table">
            <a:tbl>
              <a:tblPr/>
              <a:tblGrid>
                <a:gridCol w="1079640"/>
                <a:gridCol w="2566800"/>
                <a:gridCol w="1397160"/>
                <a:gridCol w="1576440"/>
                <a:gridCol w="1609560"/>
              </a:tblGrid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your favourite festiva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n is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can you 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can you ea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Picture 42" descr="13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05800" y="5029200"/>
            <a:ext cx="1438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59452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6385"/>
          <p:cNvSpPr/>
          <p:nvPr/>
        </p:nvSpPr>
        <p:spPr>
          <a:xfrm>
            <a:off x="1523880" y="609480"/>
            <a:ext cx="586764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Times New Roman"/>
              </a:rPr>
              <a:t>My Favourite Festival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折角形 16386"/>
          <p:cNvSpPr/>
          <p:nvPr/>
        </p:nvSpPr>
        <p:spPr>
          <a:xfrm>
            <a:off x="762120" y="1752480"/>
            <a:ext cx="7772400" cy="457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6387"/>
          <p:cNvSpPr/>
          <p:nvPr/>
        </p:nvSpPr>
        <p:spPr>
          <a:xfrm>
            <a:off x="714240" y="1905120"/>
            <a:ext cx="77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My favourite festival is ________.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It’s in __________________.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On that day, we can eat _________.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We _______________________.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And we ___________________.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Times New Roman"/>
              </a:rPr>
              <a:t>We have a lot of fun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11144036332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900000" y="9079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50920" y="1773360"/>
            <a:ext cx="860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Listen and read the text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rite the words and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Talk about your favourite festival then wr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merican festival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28760" y="357120"/>
            <a:ext cx="65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Let’s sing a s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075" descr="chr2_001"/>
          <p:cNvPicPr/>
          <p:nvPr/>
        </p:nvPicPr>
        <p:blipFill>
          <a:blip r:embed="rId1"/>
          <a:stretch/>
        </p:blipFill>
        <p:spPr>
          <a:xfrm>
            <a:off x="2714760" y="2286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0" y="200016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his favourite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5214960" y="192888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their favourite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0" y="6210360"/>
            <a:ext cx="414036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0" y="628668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her favourite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4714920" y="646128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our favourite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42920" y="20001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ational 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142920" y="62150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llow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4857840" y="19288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anksgi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4714920" y="64612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hildren’s 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2" descr=""/>
          <p:cNvPicPr/>
          <p:nvPr/>
        </p:nvPicPr>
        <p:blipFill>
          <a:blip r:embed="rId2"/>
          <a:stretch/>
        </p:blipFill>
        <p:spPr>
          <a:xfrm>
            <a:off x="0" y="0"/>
            <a:ext cx="3384720" cy="201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3" descr=""/>
          <p:cNvPicPr/>
          <p:nvPr/>
        </p:nvPicPr>
        <p:blipFill>
          <a:blip r:embed="rId3"/>
          <a:stretch/>
        </p:blipFill>
        <p:spPr>
          <a:xfrm>
            <a:off x="5761080" y="0"/>
            <a:ext cx="3382920" cy="201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4" descr=""/>
          <p:cNvPicPr/>
          <p:nvPr/>
        </p:nvPicPr>
        <p:blipFill>
          <a:blip r:embed="rId4"/>
          <a:stretch/>
        </p:blipFill>
        <p:spPr>
          <a:xfrm>
            <a:off x="0" y="4143240"/>
            <a:ext cx="3382920" cy="201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5" descr=""/>
          <p:cNvPicPr/>
          <p:nvPr/>
        </p:nvPicPr>
        <p:blipFill>
          <a:blip r:embed="rId5"/>
          <a:stretch/>
        </p:blipFill>
        <p:spPr>
          <a:xfrm>
            <a:off x="5572080" y="4286160"/>
            <a:ext cx="3384720" cy="201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5214960" y="357192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my favourite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5286240" y="3500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内容占位符 3" descr="图片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1285920" y="78588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071720" y="228600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介绍自己喜欢的节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写一篇自己最喜欢的节日的小短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11144036332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826920" y="1628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 is Simon’s favourite festiv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258920" y="263700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. New Ye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58920" y="3500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. Christm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258920" y="4365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. Thanksg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1187280" y="4292640"/>
            <a:ext cx="576360" cy="79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11144036332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55640" y="692280"/>
            <a:ext cx="39592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sten and th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55640" y="177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 do you do on Thanksgiving, Sim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11280" y="2637000"/>
            <a:ext cx="71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66cc"/>
              </a:buClr>
              <a:buSzPct val="1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always have a big, special din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11280" y="3213000"/>
            <a:ext cx="81360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buClr>
                <a:srgbClr val="ff66cc"/>
              </a:buClr>
              <a:buSzPct val="1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buClr>
                <a:srgbClr val="ff66cc"/>
              </a:buClr>
              <a:buSzPct val="1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sa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“thank you”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our food, fami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10" descr="第2句.png"/>
          <p:cNvPicPr/>
          <p:nvPr/>
        </p:nvPicPr>
        <p:blipFill>
          <a:blip r:embed="rId2"/>
          <a:stretch/>
        </p:blipFill>
        <p:spPr>
          <a:xfrm>
            <a:off x="6154560" y="0"/>
            <a:ext cx="2989440" cy="1916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14240" y="4714920"/>
            <a:ext cx="71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66cc"/>
              </a:buClr>
              <a:buSzPct val="12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rote a poem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1.When is Christmas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2.What do people put in their homes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3.What can you see in the streets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4.What do people give and send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10242"/>
          <p:cNvSpPr/>
          <p:nvPr/>
        </p:nvSpPr>
        <p:spPr>
          <a:xfrm>
            <a:off x="380880" y="3429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imes New Roman"/>
              </a:rPr>
              <a:t>There are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 lights in the streets and shop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0243"/>
          <p:cNvSpPr/>
          <p:nvPr/>
        </p:nvSpPr>
        <p:spPr>
          <a:xfrm>
            <a:off x="457200" y="2209680"/>
            <a:ext cx="85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Times New Roman"/>
              </a:rPr>
              <a:t>People put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hristmas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trees </a:t>
            </a:r>
            <a:r>
              <a:rPr b="1" lang="zh-CN" sz="3600" spc="-1" strike="noStrike">
                <a:solidFill>
                  <a:srgbClr val="1f497d"/>
                </a:solidFill>
                <a:latin typeface="Times New Roman"/>
              </a:rPr>
              <a:t>in their homes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10245"/>
          <p:cNvSpPr/>
          <p:nvPr/>
        </p:nvSpPr>
        <p:spPr>
          <a:xfrm>
            <a:off x="457200" y="4648320"/>
            <a:ext cx="68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imes New Roman"/>
              </a:rPr>
              <a:t>They give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 presents and cards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0246">
            <a:hlinkClick r:id="rId1" action="ppaction://hlinksldjump"/>
          </p:cNvPr>
          <p:cNvSpPr/>
          <p:nvPr/>
        </p:nvSpPr>
        <p:spPr>
          <a:xfrm>
            <a:off x="457200" y="99072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imes New Roman"/>
              </a:rPr>
              <a:t>It’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n the 25th of Decemb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Christmas is a very________ festival in many _______. It is ___ the ___ of December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put ___________in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r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homes. There are ______ in the streets and shops. We give ________ and send ____. We love i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3314"/>
          <p:cNvSpPr/>
          <p:nvPr/>
        </p:nvSpPr>
        <p:spPr>
          <a:xfrm>
            <a:off x="4819680" y="357120"/>
            <a:ext cx="231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mport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13315"/>
          <p:cNvSpPr/>
          <p:nvPr/>
        </p:nvSpPr>
        <p:spPr>
          <a:xfrm>
            <a:off x="5000760" y="17859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hristmas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t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13316"/>
          <p:cNvSpPr/>
          <p:nvPr/>
        </p:nvSpPr>
        <p:spPr>
          <a:xfrm>
            <a:off x="7400520" y="1071720"/>
            <a:ext cx="11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25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3317"/>
          <p:cNvSpPr/>
          <p:nvPr/>
        </p:nvSpPr>
        <p:spPr>
          <a:xfrm>
            <a:off x="5753160" y="1071720"/>
            <a:ext cx="7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13318"/>
          <p:cNvSpPr/>
          <p:nvPr/>
        </p:nvSpPr>
        <p:spPr>
          <a:xfrm>
            <a:off x="2732040" y="107172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ountr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13319"/>
          <p:cNvSpPr/>
          <p:nvPr/>
        </p:nvSpPr>
        <p:spPr>
          <a:xfrm>
            <a:off x="5193000" y="378612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13320"/>
          <p:cNvSpPr/>
          <p:nvPr/>
        </p:nvSpPr>
        <p:spPr>
          <a:xfrm>
            <a:off x="723240" y="3714840"/>
            <a:ext cx="19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pres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13321"/>
          <p:cNvSpPr/>
          <p:nvPr/>
        </p:nvSpPr>
        <p:spPr>
          <a:xfrm>
            <a:off x="5751720" y="24289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igh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背景8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514600" y="228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cc"/>
                </a:solidFill>
                <a:latin typeface="Calibri"/>
              </a:rPr>
              <a:t>Month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0" y="990720"/>
            <a:ext cx="876312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January    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一月     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February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二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March      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三月     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April      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四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May         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五月      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June       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六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July          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七月      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August   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八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September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九月   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October   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十月                                 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November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十一月                  </a:t>
            </a: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December    </a:t>
            </a:r>
            <a:r>
              <a:rPr b="1" lang="zh-CN" sz="4000" spc="-1" strike="noStrike">
                <a:solidFill>
                  <a:srgbClr val="c0504d"/>
                </a:solidFill>
                <a:latin typeface="Calibri"/>
              </a:rPr>
              <a:t>十二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4T02:26:12Z</dcterms:created>
  <dc:creator>helloworld</dc:creator>
  <dc:description/>
  <dc:language>en-US</dc:language>
  <cp:lastModifiedBy>helloworld</cp:lastModifiedBy>
  <dcterms:modified xsi:type="dcterms:W3CDTF">2017-10-24T05:34:50Z</dcterms:modified>
  <cp:revision>19</cp:revision>
  <dc:subject/>
  <dc:title>幻灯片 1</dc:title>
</cp:coreProperties>
</file>