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MTC_011.WAV" ContentType="audio/x-wav"/>
  <Override PartName="/ppt/media/image2.png" ContentType="image/png"/>
  <Override PartName="/ppt/media/image25.png" ContentType="image/png"/>
  <Override PartName="/ppt/media/image8.wmf" ContentType="image/x-wmf"/>
  <Override PartName="/ppt/media/image12.jpeg" ContentType="image/jpeg"/>
  <Override PartName="/ppt/media/MTA_015.WAV" ContentType="audio/x-wav"/>
  <Override PartName="/ppt/media/image22.jpeg" ContentType="image/jpeg"/>
  <Override PartName="/ppt/media/image26.png" ContentType="image/png"/>
  <Override PartName="/ppt/media/image23.jpeg" ContentType="image/jpeg"/>
  <Override PartName="/ppt/media/MTP_009.WAV" ContentType="audio/x-wav"/>
  <Override PartName="/ppt/media/image1.png" ContentType="image/png"/>
  <Override PartName="/ppt/media/image2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457-8086-4909-930F-46BF1645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6D4-E35A-4825-86D5-978D8330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CC0-B01B-4406-93EC-46598BA5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671-DA85-4830-8E0C-34CC5BE9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7408-6FA0-4343-BFEE-C187CB01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288E-FCA9-4192-8CFD-C927E49B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D09A-F760-4987-990F-36190BD8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2131-BAB2-46ED-8F59-83FEFB84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4529-944C-4564-8F95-684D8263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F6D4-7999-429B-8F75-325F16A0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043D-0CA5-4229-A721-7D1B2514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B44-BA8B-4575-AE18-B3024134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7A9B-D1C3-4AB7-9E26-9BE7A56D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AA19-D9BC-4DED-AD83-1E12A438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FAAD-1286-4233-A005-52CB1299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D5E8-835D-49F4-B3CC-BA74B4D9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EE67-FE66-499C-8DF8-8DC261CD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FF0-B90B-4DC3-AC48-ADAB4A21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E51-3B1A-448E-B78A-30B5BB4D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75B-8D08-47E4-8B4D-E1ED528D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521-C760-42BB-918D-C9A921A4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D57-DDEC-41BA-9B8E-9B67F73F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42B-60E7-4088-8091-B523925A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EF2-BEF5-4BEC-A265-BA0DE6DA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8029-7B57-4537-A7AD-CFD3AF045E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996B-2E80-4778-901B-3E5CBF9773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8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image" Target="../media/image22.jpeg"/><Relationship Id="rId7" Type="http://schemas.openxmlformats.org/officeDocument/2006/relationships/image" Target="../media/image18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8.pn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TC_011.WAV"/><Relationship Id="rId2" Type="http://schemas.openxmlformats.org/officeDocument/2006/relationships/audio" Target="../media/MTP_009.WAV"/><Relationship Id="rId3" Type="http://schemas.openxmlformats.org/officeDocument/2006/relationships/audio" Target="../media/MTA_015.WAV"/><Relationship Id="rId4" Type="http://schemas.openxmlformats.org/officeDocument/2006/relationships/audio" Target="../media/MTC_011.WAV"/><Relationship Id="rId5" Type="http://schemas.openxmlformats.org/officeDocument/2006/relationships/audio" Target="../media/MTP_009.WAV"/><Relationship Id="rId6" Type="http://schemas.openxmlformats.org/officeDocument/2006/relationships/audio" Target="../media/MTC_011.WAV"/><Relationship Id="rId7" Type="http://schemas.openxmlformats.org/officeDocument/2006/relationships/audio" Target="../media/MTP_009.WAV"/><Relationship Id="rId8" Type="http://schemas.openxmlformats.org/officeDocument/2006/relationships/audio" Target="../media/MTA_015.WAV"/><Relationship Id="rId9" Type="http://schemas.openxmlformats.org/officeDocument/2006/relationships/audio" Target="../media/MTP_009.WAV"/><Relationship Id="rId10" Type="http://schemas.openxmlformats.org/officeDocument/2006/relationships/audio" Target="../media/MTP_009.WAV"/><Relationship Id="rId11" Type="http://schemas.openxmlformats.org/officeDocument/2006/relationships/audio" Target="../media/MTP_009.WAV"/><Relationship Id="rId12" Type="http://schemas.openxmlformats.org/officeDocument/2006/relationships/audio" Target="../media/MTP_009.WAV"/><Relationship Id="rId13" Type="http://schemas.openxmlformats.org/officeDocument/2006/relationships/audio" Target="../media/MTP_009.WAV"/><Relationship Id="rId14" Type="http://schemas.openxmlformats.org/officeDocument/2006/relationships/audio" Target="../media/MTP_009.WAV"/><Relationship Id="rId15" Type="http://schemas.openxmlformats.org/officeDocument/2006/relationships/audio" Target="../media/MTP_009.WAV"/><Relationship Id="rId16" Type="http://schemas.openxmlformats.org/officeDocument/2006/relationships/audio" Target="../media/MTP_009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11"/>
          <p:cNvPicPr/>
          <p:nvPr/>
        </p:nvPicPr>
        <p:blipFill>
          <a:blip r:embed="rId1"/>
          <a:srcRect l="0" t="590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-181080" y="917640"/>
            <a:ext cx="784872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---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---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s---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r---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---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---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---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27640" y="939960"/>
            <a:ext cx="180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427640" y="1628640"/>
            <a:ext cx="180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427640" y="2421000"/>
            <a:ext cx="180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427640" y="3171960"/>
            <a:ext cx="180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r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572000" y="39337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427640" y="4653000"/>
            <a:ext cx="180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427640" y="5373720"/>
            <a:ext cx="22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03280" y="2060280"/>
            <a:ext cx="38098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Childre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ome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Mothe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athe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Teacher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1619280" y="620640"/>
            <a:ext cx="43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o you know?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Rectangle 34"/>
          <p:cNvSpPr/>
          <p:nvPr/>
        </p:nvSpPr>
        <p:spPr>
          <a:xfrm>
            <a:off x="1545120" y="2708280"/>
            <a:ext cx="12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名词所有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5"/>
          <p:cNvSpPr/>
          <p:nvPr/>
        </p:nvSpPr>
        <p:spPr>
          <a:xfrm>
            <a:off x="1590480" y="3357720"/>
            <a:ext cx="13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名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7"/>
          <p:cNvSpPr/>
          <p:nvPr/>
        </p:nvSpPr>
        <p:spPr>
          <a:xfrm>
            <a:off x="1476360" y="5373720"/>
            <a:ext cx="81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ur school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’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playground is big.               (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playground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o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ur school is big.       (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9"/>
          <p:cNvSpPr/>
          <p:nvPr/>
        </p:nvSpPr>
        <p:spPr>
          <a:xfrm>
            <a:off x="1908000" y="551664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0"/>
          <p:cNvSpPr/>
          <p:nvPr/>
        </p:nvSpPr>
        <p:spPr>
          <a:xfrm>
            <a:off x="2627280" y="465300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my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’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dress is w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1"/>
          <p:cNvSpPr/>
          <p:nvPr/>
        </p:nvSpPr>
        <p:spPr>
          <a:xfrm>
            <a:off x="6877080" y="602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6877080" y="537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4"/>
          <p:cNvSpPr/>
          <p:nvPr/>
        </p:nvSpPr>
        <p:spPr>
          <a:xfrm>
            <a:off x="3203640" y="4508640"/>
            <a:ext cx="295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Teacher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5580000" y="0"/>
            <a:ext cx="2449440" cy="29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章子怡"/>
          <p:cNvPicPr/>
          <p:nvPr/>
        </p:nvPicPr>
        <p:blipFill>
          <a:blip r:embed="rId1"/>
          <a:stretch/>
        </p:blipFill>
        <p:spPr>
          <a:xfrm>
            <a:off x="611280" y="3500280"/>
            <a:ext cx="2303280" cy="29530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541080" y="126828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is is...’ s pho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0" y="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ose photo is i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397440" y="1268280"/>
            <a:ext cx="52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ZhangZiyi’ 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pho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2" descr="Img242223290"/>
          <p:cNvPicPr/>
          <p:nvPr/>
        </p:nvPicPr>
        <p:blipFill>
          <a:blip r:embed="rId2"/>
          <a:srcRect l="0" t="19993" r="53737" b="0"/>
          <a:stretch/>
        </p:blipFill>
        <p:spPr>
          <a:xfrm>
            <a:off x="6227640" y="693720"/>
            <a:ext cx="2262240" cy="2305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SO01862_"/>
          <p:cNvPicPr/>
          <p:nvPr/>
        </p:nvPicPr>
        <p:blipFill>
          <a:blip r:embed="rId3"/>
          <a:stretch/>
        </p:blipFill>
        <p:spPr>
          <a:xfrm>
            <a:off x="5796000" y="549360"/>
            <a:ext cx="2952720" cy="2870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赵薇"/>
          <p:cNvPicPr/>
          <p:nvPr/>
        </p:nvPicPr>
        <p:blipFill>
          <a:blip r:embed="rId4"/>
          <a:stretch/>
        </p:blipFill>
        <p:spPr>
          <a:xfrm>
            <a:off x="3276720" y="3500280"/>
            <a:ext cx="2195280" cy="2953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范冰冰"/>
          <p:cNvPicPr/>
          <p:nvPr/>
        </p:nvPicPr>
        <p:blipFill>
          <a:blip r:embed="rId5"/>
          <a:stretch/>
        </p:blipFill>
        <p:spPr>
          <a:xfrm>
            <a:off x="5867280" y="3500280"/>
            <a:ext cx="2376720" cy="2881440"/>
          </a:xfrm>
          <a:prstGeom prst="rect">
            <a:avLst/>
          </a:prstGeom>
          <a:ln w="0">
            <a:noFill/>
          </a:ln>
        </p:spPr>
      </p:pic>
      <p:sp>
        <p:nvSpPr>
          <p:cNvPr id="190" name="Line 17"/>
          <p:cNvSpPr/>
          <p:nvPr/>
        </p:nvSpPr>
        <p:spPr>
          <a:xfrm flipH="1">
            <a:off x="1692000" y="2133720"/>
            <a:ext cx="417492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7020000" y="0"/>
            <a:ext cx="15127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8675640" y="2060640"/>
            <a:ext cx="4683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651640" y="476280"/>
            <a:ext cx="2887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6804000" y="260280"/>
            <a:ext cx="1368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5580000" y="0"/>
            <a:ext cx="2449440" cy="29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541080" y="126828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is is...’ s pho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0" y="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ose photo is i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1268280"/>
            <a:ext cx="57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ongDandan’ 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pho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3995280" y="2708280"/>
            <a:ext cx="180036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8" descr="Img242223290"/>
          <p:cNvPicPr/>
          <p:nvPr/>
        </p:nvPicPr>
        <p:blipFill>
          <a:blip r:embed="rId1"/>
          <a:srcRect l="0" t="19993" r="53737" b="0"/>
          <a:stretch/>
        </p:blipFill>
        <p:spPr>
          <a:xfrm>
            <a:off x="6227640" y="693720"/>
            <a:ext cx="2262240" cy="2305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SO01862_"/>
          <p:cNvPicPr/>
          <p:nvPr/>
        </p:nvPicPr>
        <p:blipFill>
          <a:blip r:embed="rId2"/>
          <a:stretch/>
        </p:blipFill>
        <p:spPr>
          <a:xfrm>
            <a:off x="5796000" y="549360"/>
            <a:ext cx="2952720" cy="2870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赵薇"/>
          <p:cNvPicPr/>
          <p:nvPr/>
        </p:nvPicPr>
        <p:blipFill>
          <a:blip r:embed="rId3"/>
          <a:stretch/>
        </p:blipFill>
        <p:spPr>
          <a:xfrm>
            <a:off x="250920" y="3500280"/>
            <a:ext cx="2195280" cy="2737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范冰冰"/>
          <p:cNvPicPr/>
          <p:nvPr/>
        </p:nvPicPr>
        <p:blipFill>
          <a:blip r:embed="rId4"/>
          <a:stretch/>
        </p:blipFill>
        <p:spPr>
          <a:xfrm>
            <a:off x="5867280" y="3500280"/>
            <a:ext cx="2376720" cy="28814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3"/>
          <p:cNvSpPr/>
          <p:nvPr/>
        </p:nvSpPr>
        <p:spPr>
          <a:xfrm>
            <a:off x="7020000" y="0"/>
            <a:ext cx="15127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8675640" y="2060640"/>
            <a:ext cx="4683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5651640" y="476280"/>
            <a:ext cx="2887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6804000" y="260280"/>
            <a:ext cx="1368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7" descr="songdandan3"/>
          <p:cNvPicPr/>
          <p:nvPr/>
        </p:nvPicPr>
        <p:blipFill>
          <a:blip r:embed="rId5"/>
          <a:stretch/>
        </p:blipFill>
        <p:spPr>
          <a:xfrm>
            <a:off x="2987640" y="3429000"/>
            <a:ext cx="2303640" cy="2954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8" descr="songdandan 1"/>
          <p:cNvPicPr/>
          <p:nvPr/>
        </p:nvPicPr>
        <p:blipFill>
          <a:blip r:embed="rId6"/>
          <a:stretch/>
        </p:blipFill>
        <p:spPr>
          <a:xfrm>
            <a:off x="6227640" y="907920"/>
            <a:ext cx="20163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/>
          <p:cNvSpPr/>
          <p:nvPr/>
        </p:nvSpPr>
        <p:spPr>
          <a:xfrm>
            <a:off x="2771640" y="2637000"/>
            <a:ext cx="637236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63640" y="0"/>
            <a:ext cx="424980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6" descr="王力宏"/>
          <p:cNvPicPr/>
          <p:nvPr/>
        </p:nvPicPr>
        <p:blipFill>
          <a:blip r:embed="rId1"/>
          <a:stretch/>
        </p:blipFill>
        <p:spPr>
          <a:xfrm>
            <a:off x="3276720" y="3500280"/>
            <a:ext cx="2239920" cy="2595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周星驰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664000"/>
          </a:xfrm>
          <a:prstGeom prst="rect">
            <a:avLst/>
          </a:prstGeom>
          <a:ln w="0">
            <a:noFill/>
          </a:ln>
        </p:spPr>
      </p:pic>
      <p:sp>
        <p:nvSpPr>
          <p:cNvPr id="214" name="Line 8"/>
          <p:cNvSpPr/>
          <p:nvPr/>
        </p:nvSpPr>
        <p:spPr>
          <a:xfrm>
            <a:off x="5796000" y="2997360"/>
            <a:ext cx="431640" cy="122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611280" y="1197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…’s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0" descr="刘德华"/>
          <p:cNvPicPr/>
          <p:nvPr/>
        </p:nvPicPr>
        <p:blipFill>
          <a:blip r:embed="rId3"/>
          <a:stretch/>
        </p:blipFill>
        <p:spPr>
          <a:xfrm>
            <a:off x="395280" y="3500280"/>
            <a:ext cx="2160720" cy="25927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1"/>
          <p:cNvSpPr/>
          <p:nvPr/>
        </p:nvSpPr>
        <p:spPr>
          <a:xfrm>
            <a:off x="0" y="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ose photo is i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395280" y="1197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ZhouXingchi’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3" descr="SO01862_"/>
          <p:cNvPicPr/>
          <p:nvPr/>
        </p:nvPicPr>
        <p:blipFill>
          <a:blip r:embed="rId4"/>
          <a:stretch/>
        </p:blipFill>
        <p:spPr>
          <a:xfrm>
            <a:off x="5724360" y="476280"/>
            <a:ext cx="2808360" cy="2730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yao09284"/>
          <p:cNvPicPr/>
          <p:nvPr/>
        </p:nvPicPr>
        <p:blipFill>
          <a:blip r:embed="rId5"/>
          <a:stretch/>
        </p:blipFill>
        <p:spPr>
          <a:xfrm>
            <a:off x="6084720" y="836640"/>
            <a:ext cx="2043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ar"/>
          <p:cNvPicPr/>
          <p:nvPr/>
        </p:nvPicPr>
        <p:blipFill>
          <a:blip r:embed="rId1"/>
          <a:stretch/>
        </p:blipFill>
        <p:spPr>
          <a:xfrm>
            <a:off x="2050920" y="836640"/>
            <a:ext cx="4681800" cy="3591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2050920" y="3213000"/>
            <a:ext cx="4824720" cy="115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050920" y="3284640"/>
            <a:ext cx="7093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ahoma"/>
              </a:rPr>
              <a:t>Mengmeng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4800" spc="-1" strike="noStrike">
                <a:solidFill>
                  <a:srgbClr val="000000"/>
                </a:solidFill>
                <a:latin typeface="Tahoma"/>
              </a:rPr>
              <a:t>s ca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187280" y="4724280"/>
            <a:ext cx="64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187280" y="45813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meng’s car is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116000" y="5373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meng’s car is ___and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lane"/>
          <p:cNvPicPr/>
          <p:nvPr/>
        </p:nvPicPr>
        <p:blipFill>
          <a:blip r:embed="rId1"/>
          <a:srcRect l="0" t="0" r="2478" b="0"/>
          <a:stretch/>
        </p:blipFill>
        <p:spPr>
          <a:xfrm>
            <a:off x="3276720" y="3645000"/>
            <a:ext cx="2808000" cy="2376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3635280" y="5430960"/>
            <a:ext cx="216072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’s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4" descr="shirt"/>
          <p:cNvPicPr/>
          <p:nvPr/>
        </p:nvPicPr>
        <p:blipFill>
          <a:blip r:embed="rId2"/>
          <a:stretch/>
        </p:blipFill>
        <p:spPr>
          <a:xfrm>
            <a:off x="0" y="549360"/>
            <a:ext cx="3024360" cy="2440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t shirt"/>
          <p:cNvPicPr/>
          <p:nvPr/>
        </p:nvPicPr>
        <p:blipFill>
          <a:blip r:embed="rId3"/>
          <a:stretch/>
        </p:blipFill>
        <p:spPr>
          <a:xfrm>
            <a:off x="250920" y="3645000"/>
            <a:ext cx="2808360" cy="22161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7093080" y="3789360"/>
            <a:ext cx="358560" cy="358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7380360" y="3860640"/>
            <a:ext cx="35856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shones"/>
          <p:cNvPicPr/>
          <p:nvPr/>
        </p:nvPicPr>
        <p:blipFill>
          <a:blip r:embed="rId4"/>
          <a:srcRect l="0" t="0" r="6974" b="0"/>
          <a:stretch/>
        </p:blipFill>
        <p:spPr>
          <a:xfrm>
            <a:off x="3132000" y="426960"/>
            <a:ext cx="2880000" cy="26416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9"/>
          <p:cNvSpPr/>
          <p:nvPr/>
        </p:nvSpPr>
        <p:spPr>
          <a:xfrm>
            <a:off x="2916360" y="1052640"/>
            <a:ext cx="431640" cy="46083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250920" y="3357720"/>
            <a:ext cx="2736720" cy="431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11" descr="plane"/>
          <p:cNvPicPr/>
          <p:nvPr/>
        </p:nvPicPr>
        <p:blipFill>
          <a:blip r:embed="rId5"/>
          <a:stretch/>
        </p:blipFill>
        <p:spPr>
          <a:xfrm>
            <a:off x="6264360" y="692280"/>
            <a:ext cx="2879640" cy="23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u=2841123823,1322383009&amp;gp=42"/>
          <p:cNvPicPr/>
          <p:nvPr/>
        </p:nvPicPr>
        <p:blipFill>
          <a:blip r:embed="rId6"/>
          <a:stretch/>
        </p:blipFill>
        <p:spPr>
          <a:xfrm>
            <a:off x="7020000" y="98100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plane"/>
          <p:cNvPicPr/>
          <p:nvPr/>
        </p:nvPicPr>
        <p:blipFill>
          <a:blip r:embed="rId7"/>
          <a:stretch/>
        </p:blipFill>
        <p:spPr>
          <a:xfrm>
            <a:off x="6264360" y="3645000"/>
            <a:ext cx="2879640" cy="2376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u=3379366675,277056949&amp;gp=-12"/>
          <p:cNvPicPr/>
          <p:nvPr/>
        </p:nvPicPr>
        <p:blipFill>
          <a:blip r:embed="rId8"/>
          <a:stretch/>
        </p:blipFill>
        <p:spPr>
          <a:xfrm>
            <a:off x="7093080" y="3645000"/>
            <a:ext cx="1439640" cy="1439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5"/>
          <p:cNvSpPr/>
          <p:nvPr/>
        </p:nvSpPr>
        <p:spPr>
          <a:xfrm>
            <a:off x="0" y="2421000"/>
            <a:ext cx="284328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aoyong’s  sh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203640" y="2349360"/>
            <a:ext cx="277164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han’s sh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395280" y="5157720"/>
            <a:ext cx="25923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iqi’s  T-sh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6154560" y="2421000"/>
            <a:ext cx="298944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ly’s sung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6300720" y="5445000"/>
            <a:ext cx="284328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axin’s  ap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shones"/>
          <p:cNvPicPr/>
          <p:nvPr/>
        </p:nvPicPr>
        <p:blipFill>
          <a:blip r:embed="rId1"/>
          <a:srcRect l="0" t="0" r="9277" b="0"/>
          <a:stretch/>
        </p:blipFill>
        <p:spPr>
          <a:xfrm>
            <a:off x="34920" y="3524400"/>
            <a:ext cx="2808360" cy="2641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plane"/>
          <p:cNvPicPr/>
          <p:nvPr/>
        </p:nvPicPr>
        <p:blipFill>
          <a:blip r:embed="rId2"/>
          <a:stretch/>
        </p:blipFill>
        <p:spPr>
          <a:xfrm>
            <a:off x="6264360" y="3645000"/>
            <a:ext cx="2879640" cy="2376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plane"/>
          <p:cNvPicPr/>
          <p:nvPr/>
        </p:nvPicPr>
        <p:blipFill>
          <a:blip r:embed="rId3"/>
          <a:stretch/>
        </p:blipFill>
        <p:spPr>
          <a:xfrm>
            <a:off x="3276720" y="3645000"/>
            <a:ext cx="2879640" cy="2376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3635280" y="5430960"/>
            <a:ext cx="216072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’s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132000" y="3716280"/>
            <a:ext cx="3097440" cy="2257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7" descr="shirt"/>
          <p:cNvPicPr/>
          <p:nvPr/>
        </p:nvPicPr>
        <p:blipFill>
          <a:blip r:embed="rId4"/>
          <a:stretch/>
        </p:blipFill>
        <p:spPr>
          <a:xfrm>
            <a:off x="0" y="620640"/>
            <a:ext cx="3024360" cy="2440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t shirt"/>
          <p:cNvPicPr/>
          <p:nvPr/>
        </p:nvPicPr>
        <p:blipFill>
          <a:blip r:embed="rId5"/>
          <a:stretch/>
        </p:blipFill>
        <p:spPr>
          <a:xfrm>
            <a:off x="3276720" y="836640"/>
            <a:ext cx="2808000" cy="22161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9"/>
          <p:cNvSpPr/>
          <p:nvPr/>
        </p:nvSpPr>
        <p:spPr>
          <a:xfrm>
            <a:off x="7093080" y="3789360"/>
            <a:ext cx="358560" cy="358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7380360" y="3860640"/>
            <a:ext cx="35856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2916360" y="1052640"/>
            <a:ext cx="431640" cy="46083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250920" y="3357720"/>
            <a:ext cx="2736720" cy="431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plane"/>
          <p:cNvPicPr/>
          <p:nvPr/>
        </p:nvPicPr>
        <p:blipFill>
          <a:blip r:embed="rId6"/>
          <a:stretch/>
        </p:blipFill>
        <p:spPr>
          <a:xfrm>
            <a:off x="6264360" y="692280"/>
            <a:ext cx="2879640" cy="2376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u=2841123823,1322383009&amp;gp=42"/>
          <p:cNvPicPr/>
          <p:nvPr/>
        </p:nvPicPr>
        <p:blipFill>
          <a:blip r:embed="rId7"/>
          <a:stretch/>
        </p:blipFill>
        <p:spPr>
          <a:xfrm>
            <a:off x="6948360" y="3933720"/>
            <a:ext cx="1513080" cy="1513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5"/>
          <p:cNvSpPr/>
          <p:nvPr/>
        </p:nvSpPr>
        <p:spPr>
          <a:xfrm>
            <a:off x="179280" y="5516640"/>
            <a:ext cx="284328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han’s sh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6" descr="u=3379366675,277056949&amp;gp=-12"/>
          <p:cNvPicPr/>
          <p:nvPr/>
        </p:nvPicPr>
        <p:blipFill>
          <a:blip r:embed="rId8"/>
          <a:stretch/>
        </p:blipFill>
        <p:spPr>
          <a:xfrm>
            <a:off x="7020000" y="90792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7"/>
          <p:cNvSpPr/>
          <p:nvPr/>
        </p:nvSpPr>
        <p:spPr>
          <a:xfrm>
            <a:off x="34920" y="2421000"/>
            <a:ext cx="284328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aoyong’s  sh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3348000" y="2349360"/>
            <a:ext cx="25923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iqi’s  T-sh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6156360" y="5445000"/>
            <a:ext cx="298764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ly’s sung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6300720" y="2492280"/>
            <a:ext cx="284328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axin’s  ap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0" y="765000"/>
            <a:ext cx="3097080" cy="2257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3059280" y="836640"/>
            <a:ext cx="3097080" cy="2257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6046920" y="836640"/>
            <a:ext cx="3097080" cy="2257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6300720" y="3716280"/>
            <a:ext cx="2843280" cy="225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0" y="3716280"/>
            <a:ext cx="3097080" cy="225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45" dur="indefinite" restart="never" nodeType="tmRoot">
          <p:childTnLst>
            <p:seq>
              <p:cTn id="346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6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1" descr="d027"/>
          <p:cNvPicPr/>
          <p:nvPr/>
        </p:nvPicPr>
        <p:blipFill>
          <a:blip r:embed="rId1"/>
          <a:stretch/>
        </p:blipFill>
        <p:spPr>
          <a:xfrm>
            <a:off x="-1116000" y="-28440"/>
            <a:ext cx="10836360" cy="6886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79292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 and choos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一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句意选一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. That coat is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mine , m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Whose pencil is this?  It’s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(her, hers) p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Amy is    Amy’s)dress is w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. It isn’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(your, your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5. Whose computer is it? It’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(Tom, Tom’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771640" y="134136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6"/>
          <p:cNvSpPr/>
          <p:nvPr/>
        </p:nvSpPr>
        <p:spPr>
          <a:xfrm>
            <a:off x="3851280" y="1268280"/>
            <a:ext cx="936720" cy="648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5559480" y="5307120"/>
            <a:ext cx="59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4788000" y="198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5867280" y="2060640"/>
            <a:ext cx="649440" cy="503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1042920" y="2565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my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3851280" y="2637000"/>
            <a:ext cx="1225440" cy="647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2124000" y="33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y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4284720" y="3357720"/>
            <a:ext cx="1152360" cy="647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4859280" y="4005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m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6877080" y="4005360"/>
            <a:ext cx="1152360" cy="647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4356000" y="4149720"/>
            <a:ext cx="360360" cy="43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88640"/>
            <a:ext cx="89265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    ) 1.Tom ____ buy some boo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ants B. want  C. want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    ) 2. That dress is 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y sis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 B. sister  C. my si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    ) 3. This coat is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 ___. 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 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rs, his B. his, her  C. your, 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    ) 4. ____ trousers are the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o  B.  Whose  C. Wh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    ) 6. 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 _____ mat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. the  B.  a   C. an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900000" y="189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900000" y="126828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826920" y="2492280"/>
            <a:ext cx="3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826920" y="3716280"/>
            <a:ext cx="4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826920" y="4869000"/>
            <a:ext cx="3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900000" y="53737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s is my book. =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This book is m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s is your pencil.= _____________________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at is his eraser.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________________________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s coat is hers.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____________________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at dress is Li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___________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187280" y="1557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This pencil is y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1476360" y="278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That eraser is 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332000" y="39337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This is her co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476360" y="515772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That is Lily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 dr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6920" y="1989000"/>
            <a:ext cx="588492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task is talking about something belongs to by using possessive pronouns and possessive nou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用物主代词和名词所有格谈论事物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337480" y="836640"/>
            <a:ext cx="419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Module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8" descr="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9"/>
          <p:cNvSpPr/>
          <p:nvPr/>
        </p:nvSpPr>
        <p:spPr>
          <a:xfrm>
            <a:off x="2340000" y="1989000"/>
            <a:ext cx="72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teacher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’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smiling 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s the student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s’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s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WordArt 10"/>
          <p:cNvSpPr txBox="1"/>
          <p:nvPr/>
        </p:nvSpPr>
        <p:spPr>
          <a:xfrm>
            <a:off x="3564000" y="3860640"/>
            <a:ext cx="30938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ank you!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oodbye everyone.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111"/>
          <p:cNvPicPr/>
          <p:nvPr/>
        </p:nvPicPr>
        <p:blipFill>
          <a:blip r:embed="rId1"/>
          <a:srcRect l="0" t="590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-181080" y="917640"/>
            <a:ext cx="784872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---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---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s---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r---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---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---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---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427640" y="939960"/>
            <a:ext cx="180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427640" y="1628640"/>
            <a:ext cx="180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427640" y="2421000"/>
            <a:ext cx="180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427640" y="3171960"/>
            <a:ext cx="180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r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572000" y="39337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427640" y="4653000"/>
            <a:ext cx="180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427640" y="5373720"/>
            <a:ext cx="22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2420640"/>
            <a:ext cx="7772400" cy="71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Picture 3" descr="T2"/>
          <p:cNvPicPr/>
          <p:nvPr/>
        </p:nvPicPr>
        <p:blipFill>
          <a:blip r:embed="rId1"/>
          <a:srcRect l="81820" t="63504" r="7577" b="26836"/>
          <a:stretch/>
        </p:blipFill>
        <p:spPr>
          <a:xfrm>
            <a:off x="5257800" y="685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47242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ose </a:t>
            </a:r>
            <a:r>
              <a:rPr b="1" i="1" lang="en-US" sz="3600" spc="-1" strike="noStrike">
                <a:solidFill>
                  <a:srgbClr val="ffcf01"/>
                </a:solidFill>
                <a:latin typeface="Times New Roman"/>
              </a:rPr>
              <a:t>bag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is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857680" y="3714480"/>
            <a:ext cx="3217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’s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ers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214800" y="26431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her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ba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-324000" y="260280"/>
            <a:ext cx="94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形容词性物主代词     </a:t>
            </a:r>
            <a:r>
              <a:rPr b="0" lang="en-US" sz="2800" spc="-1" strike="noStrike">
                <a:solidFill>
                  <a:srgbClr val="ffcf01"/>
                </a:solidFill>
                <a:latin typeface="Times New Roman"/>
              </a:rPr>
              <a:t>my     his     her     your     our     its      the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5280" y="981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名词性物主代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771640" y="1052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635280" y="1052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356000" y="1052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219640" y="1052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084720" y="1052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948360" y="1052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7596360" y="1052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24000" y="1654200"/>
            <a:ext cx="81723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f01"/>
                </a:solidFill>
                <a:latin typeface="Times New Roman"/>
              </a:rPr>
              <a:t>根据句意选一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oat is _______( mine, m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se pencil is this?  It’s _____(her, hers) penc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(Who’s ,  Whose) shirt is this? It’s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y _______(their, theirs) books? No, they’re all ______( her, h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your red T-shirts _____(are ,is, am)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n’t _______( your, y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se computer is it?   I think it’s ________( Amy, Amy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268360" y="2133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3924360" y="2708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684360" y="3213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1908000" y="3789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826920" y="4221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3564000" y="4724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1692360" y="5300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5076720" y="57340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my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TC_0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P_0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A_01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C_0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P_0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C_0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TP_0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TA_01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TP_0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TP_0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TP_0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TP_0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TP_0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TP_0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TP_0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MTP_0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hai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5"/>
          <p:cNvSpPr txBox="1"/>
          <p:nvPr/>
        </p:nvSpPr>
        <p:spPr>
          <a:xfrm rot="670800">
            <a:off x="1834920" y="0"/>
            <a:ext cx="30765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icrosoft Sans Serif"/>
              </a:rPr>
              <a:t>Module5  Unit2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icrosoft Sans Serif"/>
              <a:ea typeface="Microsoft Sans Serif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1187280" y="2924280"/>
            <a:ext cx="5761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my's blue dress is wet.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5" name="Picture 9" descr="Image1"/>
          <p:cNvPicPr/>
          <p:nvPr/>
        </p:nvPicPr>
        <p:blipFill>
          <a:blip r:embed="rId2"/>
          <a:stretch/>
        </p:blipFill>
        <p:spPr>
          <a:xfrm>
            <a:off x="5364000" y="189000"/>
            <a:ext cx="3780000" cy="2808360"/>
          </a:xfrm>
          <a:prstGeom prst="rect">
            <a:avLst/>
          </a:prstGeom>
          <a:ln w="0">
            <a:noFill/>
          </a:ln>
        </p:spPr>
      </p:pic>
      <p:sp>
        <p:nvSpPr>
          <p:cNvPr id="146" name="Oval 10"/>
          <p:cNvSpPr/>
          <p:nvPr/>
        </p:nvSpPr>
        <p:spPr>
          <a:xfrm>
            <a:off x="5651640" y="836640"/>
            <a:ext cx="936360" cy="1655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80400" y="4221000"/>
            <a:ext cx="581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my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的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是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湿的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Img250721199"/>
          <p:cNvPicPr/>
          <p:nvPr/>
        </p:nvPicPr>
        <p:blipFill>
          <a:blip r:embed="rId1"/>
          <a:stretch/>
        </p:blipFill>
        <p:spPr>
          <a:xfrm>
            <a:off x="3875040" y="4365720"/>
            <a:ext cx="696960" cy="863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293760" y="1413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my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’s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dress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wet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2843280" y="2421000"/>
            <a:ext cx="504720" cy="19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6"/>
          <p:cNvSpPr/>
          <p:nvPr/>
        </p:nvSpPr>
        <p:spPr>
          <a:xfrm flipH="1">
            <a:off x="5219640" y="2565360"/>
            <a:ext cx="1152720" cy="172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4897440" cy="4464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’s raining.Children are running home.Look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y’s blue dress is w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gling’s favourite skirt is dirty. Sam’s shoes 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t and dirty.Tom 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ugh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18" descr="Image1"/>
          <p:cNvPicPr/>
          <p:nvPr/>
        </p:nvPicPr>
        <p:blipFill>
          <a:blip r:embed="rId1"/>
          <a:stretch/>
        </p:blipFill>
        <p:spPr>
          <a:xfrm>
            <a:off x="5076720" y="1557360"/>
            <a:ext cx="3816360" cy="39592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3"/>
          <p:cNvSpPr/>
          <p:nvPr/>
        </p:nvSpPr>
        <p:spPr>
          <a:xfrm>
            <a:off x="539640" y="62064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4897440" cy="3357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t’s raining.Children are running home.Look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y’s blue dress is w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gling’s favourite skirt is dirty. Sam’s shoes 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t and dirty.Tom 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ugh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5076720" y="836640"/>
            <a:ext cx="3745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18" descr="Image1"/>
          <p:cNvPicPr/>
          <p:nvPr/>
        </p:nvPicPr>
        <p:blipFill>
          <a:blip r:embed="rId1"/>
          <a:stretch/>
        </p:blipFill>
        <p:spPr>
          <a:xfrm>
            <a:off x="4932360" y="189000"/>
            <a:ext cx="4211640" cy="3357360"/>
          </a:xfrm>
          <a:prstGeom prst="rect">
            <a:avLst/>
          </a:prstGeom>
          <a:ln w="0">
            <a:noFill/>
          </a:ln>
        </p:spPr>
      </p:pic>
      <p:sp>
        <p:nvSpPr>
          <p:cNvPr id="158" name="Line 19"/>
          <p:cNvSpPr/>
          <p:nvPr/>
        </p:nvSpPr>
        <p:spPr>
          <a:xfrm>
            <a:off x="468360" y="1484280"/>
            <a:ext cx="345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395280" y="242100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468360" y="2852640"/>
            <a:ext cx="1800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39640" y="3789360"/>
          <a:ext cx="7272360" cy="2754360"/>
        </p:xfrm>
        <a:graphic>
          <a:graphicData uri="http://schemas.openxmlformats.org/drawingml/2006/table">
            <a:tbl>
              <a:tblPr/>
              <a:tblGrid>
                <a:gridCol w="3637080"/>
                <a:gridCol w="3635280"/>
              </a:tblGrid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y’s blue 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gling’s favourite ski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’s sho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49"/>
          <p:cNvSpPr/>
          <p:nvPr/>
        </p:nvSpPr>
        <p:spPr>
          <a:xfrm>
            <a:off x="4211640" y="3933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Amy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 blue dress is w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4211640" y="4508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Lingling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 favourite skirt is di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4140360" y="537372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a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 shoes are wet and dir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211640" y="6021360"/>
            <a:ext cx="36720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om is  laughi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3"/>
          <p:cNvSpPr/>
          <p:nvPr/>
        </p:nvSpPr>
        <p:spPr>
          <a:xfrm>
            <a:off x="468360" y="1989000"/>
            <a:ext cx="395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54"/>
          <p:cNvSpPr/>
          <p:nvPr/>
        </p:nvSpPr>
        <p:spPr>
          <a:xfrm>
            <a:off x="1403280" y="2421000"/>
            <a:ext cx="2376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55"/>
          <p:cNvSpPr/>
          <p:nvPr/>
        </p:nvSpPr>
        <p:spPr>
          <a:xfrm>
            <a:off x="2556000" y="2852640"/>
            <a:ext cx="93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6"/>
          <p:cNvSpPr/>
          <p:nvPr/>
        </p:nvSpPr>
        <p:spPr>
          <a:xfrm>
            <a:off x="468360" y="3357720"/>
            <a:ext cx="107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0:05:30Z</dcterms:created>
  <dc:creator>wangli</dc:creator>
  <dc:description/>
  <dc:language>en-US</dc:language>
  <cp:lastModifiedBy>董丽英</cp:lastModifiedBy>
  <dcterms:modified xsi:type="dcterms:W3CDTF">2017-12-18T01:15:56Z</dcterms:modified>
  <cp:revision>46</cp:revision>
  <dc:subject/>
  <dc:title>幻灯片 1</dc:title>
</cp:coreProperties>
</file>