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chimes.wav" ContentType="audio/x-wav"/>
  <Override PartName="/ppt/media/image16.png" ContentType="image/png"/>
  <Override PartName="/ppt/media/image24.jpeg" ContentType="image/jpeg"/>
  <Override PartName="/ppt/media/image15.png" ContentType="image/pn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361-5FFB-436B-9D82-DC07B7C3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503-342C-492F-AF51-F2706FD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F44-C4BF-4DC0-B71A-3EAAA5A7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A92-50B4-4CB7-999B-0EA3F452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F26-7957-48E1-9BA5-82D01C0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70C-7B0D-4EF6-B62C-4A64E131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4A4-AE4D-48DA-B729-8B19638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562-3461-4914-A02F-9AB575C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44D-3382-4311-9C9C-E337D98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BD8-8E91-4D28-8746-17AABDF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CB1-DFB6-4FAB-A068-B812EDB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BA3-2204-44A6-A233-D2FC652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BB8F-0AFD-43A4-9D08-7500F8827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2590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Revision of M4&amp;M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03848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长山岛镇中心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79132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128" name=""/>
          <p:cNvSpPr/>
          <p:nvPr/>
        </p:nvSpPr>
        <p:spPr>
          <a:xfrm>
            <a:off x="3352680" y="457200"/>
            <a:ext cx="5029200" cy="58140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ok, the hare is slee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681" t="3872" r="2681" b="2397"/>
          <a:stretch/>
        </p:blipFill>
        <p:spPr>
          <a:xfrm>
            <a:off x="762120" y="380880"/>
            <a:ext cx="7696080" cy="594360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31" name=""/>
          <p:cNvSpPr/>
          <p:nvPr/>
        </p:nvSpPr>
        <p:spPr>
          <a:xfrm>
            <a:off x="838080" y="457200"/>
            <a:ext cx="5029200" cy="58140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 the tortoise is the win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1905120" cy="167616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1904760" cy="167652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2681" t="3872" r="2681" b="2397"/>
          <a:stretch/>
        </p:blipFill>
        <p:spPr>
          <a:xfrm>
            <a:off x="1676520" y="3733920"/>
            <a:ext cx="1904760" cy="167616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36" name="" descr=""/>
          <p:cNvPicPr/>
          <p:nvPr/>
        </p:nvPicPr>
        <p:blipFill>
          <a:blip r:embed="rId5"/>
          <a:srcRect l="36693" t="47769" r="15039" b="0"/>
          <a:stretch/>
        </p:blipFill>
        <p:spPr>
          <a:xfrm>
            <a:off x="1676520" y="1066680"/>
            <a:ext cx="1904760" cy="167652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37" name=""/>
          <p:cNvSpPr/>
          <p:nvPr/>
        </p:nvSpPr>
        <p:spPr>
          <a:xfrm>
            <a:off x="152280" y="90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der the pictures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一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334120"/>
            <a:ext cx="1752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715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2743200"/>
            <a:ext cx="228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819520"/>
            <a:ext cx="228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486400"/>
            <a:ext cx="228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562720"/>
            <a:ext cx="228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514600" y="16002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tortoise and the hare are going to run a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1904760" cy="1600200"/>
            <a:chOff x="0" y="0"/>
            <a:chExt cx="1904760" cy="160020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04760" cy="1600200"/>
            </a:xfrm>
            <a:prstGeom prst="rect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151" name=""/>
            <p:cNvSpPr/>
            <p:nvPr/>
          </p:nvSpPr>
          <p:spPr>
            <a:xfrm>
              <a:off x="0" y="0"/>
              <a:ext cx="228600" cy="58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62920" y="0"/>
            <a:ext cx="1980720" cy="1676160"/>
            <a:chOff x="7162920" y="0"/>
            <a:chExt cx="1980720" cy="167616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rcRect l="36693" t="47769" r="15039" b="0"/>
            <a:stretch/>
          </p:blipFill>
          <p:spPr>
            <a:xfrm>
              <a:off x="7162920" y="0"/>
              <a:ext cx="1980720" cy="1676160"/>
            </a:xfrm>
            <a:prstGeom prst="rect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7162920" y="0"/>
              <a:ext cx="2376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086600" y="4343400"/>
            <a:ext cx="2057040" cy="1676160"/>
            <a:chOff x="7086600" y="4343400"/>
            <a:chExt cx="2057040" cy="1676160"/>
          </a:xfrm>
        </p:grpSpPr>
        <p:pic>
          <p:nvPicPr>
            <p:cNvPr id="156" name="" descr=""/>
            <p:cNvPicPr/>
            <p:nvPr/>
          </p:nvPicPr>
          <p:blipFill>
            <a:blip r:embed="rId4"/>
            <a:srcRect l="2681" t="3872" r="2681" b="2397"/>
            <a:stretch/>
          </p:blipFill>
          <p:spPr>
            <a:xfrm>
              <a:off x="7086600" y="4343400"/>
              <a:ext cx="2057040" cy="1676160"/>
            </a:xfrm>
            <a:prstGeom prst="rect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7086600" y="4343400"/>
              <a:ext cx="2466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0" y="4114800"/>
            <a:ext cx="1904760" cy="1676160"/>
            <a:chOff x="0" y="4114800"/>
            <a:chExt cx="1904760" cy="167616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0" y="4114800"/>
              <a:ext cx="1904760" cy="1676160"/>
            </a:xfrm>
            <a:prstGeom prst="rect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0" y="4114800"/>
              <a:ext cx="2286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514600" y="9144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The tortoise and the ha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5909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hare can run fast. The tortoise can’t run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81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ok, the hare is slee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038480"/>
            <a:ext cx="4419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 the tortoise is the winne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你能为这些图片配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2666880"/>
            <a:ext cx="3581280" cy="19051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演一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68208E-006 L -0.2875 -0.00232 E">
                                      <p:cBhvr>
                                        <p:cTn id="16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457E-006 L 0.2875 -0.12439 E">
                                      <p:cBhvr>
                                        <p:cTn id="17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4162E-006 L -0.29583 0.33965 E">
                                      <p:cBhvr>
                                        <p:cTn id="17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4624E-006 L 0.26666 0.30635 E">
                                      <p:cBhvr>
                                        <p:cTn id="17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838080"/>
            <a:ext cx="8839440" cy="601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9550" t="39281" r="73981" b="40517"/>
          <a:stretch/>
        </p:blipFill>
        <p:spPr>
          <a:xfrm>
            <a:off x="762120" y="4876920"/>
            <a:ext cx="20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42503" t="33324" r="35823" b="44114"/>
          <a:stretch/>
        </p:blipFill>
        <p:spPr>
          <a:xfrm>
            <a:off x="3733920" y="4876920"/>
            <a:ext cx="198108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4"/>
          <a:srcRect l="85909" t="46361" r="1967" b="35797"/>
          <a:stretch/>
        </p:blipFill>
        <p:spPr>
          <a:xfrm>
            <a:off x="6781680" y="4952880"/>
            <a:ext cx="20574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124080" y="548640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48640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48640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752480"/>
            <a:ext cx="7391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ming is going to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my is going to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m is going to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1676520"/>
            <a:ext cx="64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514600"/>
            <a:ext cx="64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352680"/>
            <a:ext cx="64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90360"/>
            <a:ext cx="4724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100" spc="-1" strike="noStrike">
                <a:solidFill>
                  <a:srgbClr val="000000"/>
                </a:solidFill>
                <a:latin typeface="Times New Roman"/>
              </a:rPr>
              <a:t>Listen and choose, then sa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8001000" y="152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20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143000" y="4222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port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going to be Sports Day on Friday. Daming can run fast. He’s  going to run a race. Amy can jump high. She’s going to do high jump. Sam can jump far. He’s going to do long j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ok, Daming is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inn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he run 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581280"/>
            <a:ext cx="8305920" cy="32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9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Daming can run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6623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Amy can jump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500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Sam can jump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886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 She’s going to do high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648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 He’s going to do long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410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 He’s going to run a 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91120"/>
            <a:ext cx="990720" cy="1447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505320" y="4191120"/>
            <a:ext cx="1295280" cy="838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29000" y="4952520"/>
            <a:ext cx="137160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90360"/>
            <a:ext cx="3124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Read and match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going to be Sports Day in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iaochangshan Sch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238880" cy="518184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98" name=""/>
          <p:cNvSpPr/>
          <p:nvPr/>
        </p:nvSpPr>
        <p:spPr>
          <a:xfrm>
            <a:off x="990720" y="1447920"/>
            <a:ext cx="59436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长山岛镇中心小学趣味运动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04920"/>
            <a:ext cx="2286000" cy="2931120"/>
          </a:xfrm>
          <a:prstGeom prst="rect">
            <a:avLst/>
          </a:prstGeom>
          <a:noFill/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ok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 c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 c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y c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graphicFrame>
        <p:nvGraphicFramePr>
          <p:cNvPr id="202" name=""/>
          <p:cNvGraphicFramePr/>
          <p:nvPr/>
        </p:nvGraphicFramePr>
        <p:xfrm>
          <a:off x="228600" y="1676520"/>
          <a:ext cx="8915400" cy="153180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86080"/>
                <a:gridCol w="1485720"/>
                <a:gridCol w="148608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un 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un a 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jump f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 long 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jump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 high j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de a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ide a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y foot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lay foot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6765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7621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 can…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’m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6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长山岛镇中心小学趣味运动项目报名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14680" y="3344760"/>
          <a:ext cx="7429320" cy="1532160"/>
        </p:xfrm>
        <a:graphic>
          <a:graphicData uri="http://schemas.openxmlformats.org/drawingml/2006/table">
            <a:tbl>
              <a:tblPr/>
              <a:tblGrid>
                <a:gridCol w="1485720"/>
                <a:gridCol w="1485720"/>
                <a:gridCol w="1486080"/>
                <a:gridCol w="1485720"/>
                <a:gridCol w="148608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w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w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04920" y="38098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380880" y="53352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My mother is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he’s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6094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My father is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He’s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长山岛镇中心小学趣味运动欢迎小朋友们的家长踊跃报名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63571" t="54541" r="13183" b="3394"/>
          <a:stretch/>
        </p:blipFill>
        <p:spPr>
          <a:xfrm>
            <a:off x="6705720" y="1752480"/>
            <a:ext cx="1035000" cy="152424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38743" t="54541" r="39549" b="3394"/>
          <a:stretch/>
        </p:blipFill>
        <p:spPr>
          <a:xfrm>
            <a:off x="5486400" y="1752480"/>
            <a:ext cx="1068480" cy="152424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13989" t="54541" r="64377" b="3394"/>
          <a:stretch/>
        </p:blipFill>
        <p:spPr>
          <a:xfrm>
            <a:off x="4267080" y="1752480"/>
            <a:ext cx="1063800" cy="152424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52732" t="4916" r="25560" b="52903"/>
          <a:stretch/>
        </p:blipFill>
        <p:spPr>
          <a:xfrm>
            <a:off x="7848720" y="1752480"/>
            <a:ext cx="990360" cy="152712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6" name="" descr=""/>
          <p:cNvPicPr/>
          <p:nvPr/>
        </p:nvPicPr>
        <p:blipFill>
          <a:blip r:embed="rId6"/>
          <a:srcRect l="27904" t="4916" r="50388" b="52903"/>
          <a:stretch/>
        </p:blipFill>
        <p:spPr>
          <a:xfrm>
            <a:off x="1371600" y="1752480"/>
            <a:ext cx="1143000" cy="152424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7" name="" descr=""/>
          <p:cNvPicPr/>
          <p:nvPr/>
        </p:nvPicPr>
        <p:blipFill>
          <a:blip r:embed="rId7"/>
          <a:srcRect l="3076" t="4916" r="76754" b="52903"/>
          <a:stretch/>
        </p:blipFill>
        <p:spPr>
          <a:xfrm>
            <a:off x="227160" y="1752480"/>
            <a:ext cx="1068120" cy="1524240"/>
          </a:xfrm>
          <a:prstGeom prst="rect">
            <a:avLst/>
          </a:prstGeom>
          <a:ln cap="rnd" w="1260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80880" y="4952880"/>
            <a:ext cx="1067040" cy="152424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19" name="" descr=""/>
          <p:cNvPicPr/>
          <p:nvPr/>
        </p:nvPicPr>
        <p:blipFill>
          <a:blip r:embed="rId9"/>
          <a:srcRect l="0" t="0" r="0" b="14064"/>
          <a:stretch/>
        </p:blipFill>
        <p:spPr>
          <a:xfrm>
            <a:off x="4724280" y="5410080"/>
            <a:ext cx="990720" cy="152424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7467480" y="4419720"/>
            <a:ext cx="990720" cy="152388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3200400" y="5181480"/>
            <a:ext cx="990720" cy="152424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22" name="" descr=""/>
          <p:cNvPicPr/>
          <p:nvPr/>
        </p:nvPicPr>
        <p:blipFill>
          <a:blip r:embed="rId12"/>
          <a:stretch/>
        </p:blipFill>
        <p:spPr>
          <a:xfrm>
            <a:off x="1828800" y="4800600"/>
            <a:ext cx="928800" cy="152388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pic>
        <p:nvPicPr>
          <p:cNvPr id="223" name="" descr=""/>
          <p:cNvPicPr/>
          <p:nvPr/>
        </p:nvPicPr>
        <p:blipFill>
          <a:blip r:embed="rId13"/>
          <a:stretch/>
        </p:blipFill>
        <p:spPr>
          <a:xfrm>
            <a:off x="6019920" y="4952880"/>
            <a:ext cx="1046160" cy="1524240"/>
          </a:xfrm>
          <a:prstGeom prst="rect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</p:pic>
      <p:sp>
        <p:nvSpPr>
          <p:cNvPr id="224" name=""/>
          <p:cNvSpPr/>
          <p:nvPr/>
        </p:nvSpPr>
        <p:spPr>
          <a:xfrm>
            <a:off x="762120" y="3276720"/>
            <a:ext cx="1623960" cy="1571400"/>
          </a:xfrm>
          <a:custGeom>
            <a:avLst/>
            <a:gdLst/>
            <a:ahLst/>
            <a:rect l="l" t="t" r="r" b="b"/>
            <a:pathLst>
              <a:path w="1046" h="878">
                <a:moveTo>
                  <a:pt x="0" y="0"/>
                </a:moveTo>
                <a:cubicBezTo>
                  <a:pt x="14" y="86"/>
                  <a:pt x="37" y="146"/>
                  <a:pt x="119" y="192"/>
                </a:cubicBezTo>
                <a:cubicBezTo>
                  <a:pt x="130" y="198"/>
                  <a:pt x="207" y="209"/>
                  <a:pt x="210" y="210"/>
                </a:cubicBezTo>
                <a:cubicBezTo>
                  <a:pt x="268" y="207"/>
                  <a:pt x="326" y="208"/>
                  <a:pt x="384" y="201"/>
                </a:cubicBezTo>
                <a:cubicBezTo>
                  <a:pt x="403" y="199"/>
                  <a:pt x="439" y="183"/>
                  <a:pt x="439" y="183"/>
                </a:cubicBezTo>
                <a:cubicBezTo>
                  <a:pt x="441" y="181"/>
                  <a:pt x="486" y="137"/>
                  <a:pt x="485" y="128"/>
                </a:cubicBezTo>
                <a:cubicBezTo>
                  <a:pt x="483" y="115"/>
                  <a:pt x="466" y="110"/>
                  <a:pt x="457" y="101"/>
                </a:cubicBezTo>
                <a:cubicBezTo>
                  <a:pt x="427" y="111"/>
                  <a:pt x="413" y="114"/>
                  <a:pt x="384" y="137"/>
                </a:cubicBezTo>
                <a:cubicBezTo>
                  <a:pt x="364" y="153"/>
                  <a:pt x="329" y="192"/>
                  <a:pt x="329" y="192"/>
                </a:cubicBezTo>
                <a:cubicBezTo>
                  <a:pt x="271" y="340"/>
                  <a:pt x="332" y="451"/>
                  <a:pt x="430" y="549"/>
                </a:cubicBezTo>
                <a:cubicBezTo>
                  <a:pt x="471" y="590"/>
                  <a:pt x="440" y="584"/>
                  <a:pt x="494" y="613"/>
                </a:cubicBezTo>
                <a:cubicBezTo>
                  <a:pt x="564" y="651"/>
                  <a:pt x="635" y="673"/>
                  <a:pt x="713" y="686"/>
                </a:cubicBezTo>
                <a:cubicBezTo>
                  <a:pt x="765" y="681"/>
                  <a:pt x="801" y="689"/>
                  <a:pt x="841" y="658"/>
                </a:cubicBezTo>
                <a:cubicBezTo>
                  <a:pt x="858" y="645"/>
                  <a:pt x="872" y="628"/>
                  <a:pt x="887" y="613"/>
                </a:cubicBezTo>
                <a:cubicBezTo>
                  <a:pt x="893" y="607"/>
                  <a:pt x="905" y="594"/>
                  <a:pt x="905" y="594"/>
                </a:cubicBezTo>
                <a:cubicBezTo>
                  <a:pt x="902" y="582"/>
                  <a:pt x="906" y="565"/>
                  <a:pt x="896" y="558"/>
                </a:cubicBezTo>
                <a:cubicBezTo>
                  <a:pt x="882" y="547"/>
                  <a:pt x="842" y="593"/>
                  <a:pt x="841" y="594"/>
                </a:cubicBezTo>
                <a:cubicBezTo>
                  <a:pt x="822" y="653"/>
                  <a:pt x="812" y="672"/>
                  <a:pt x="841" y="759"/>
                </a:cubicBezTo>
                <a:cubicBezTo>
                  <a:pt x="849" y="784"/>
                  <a:pt x="896" y="814"/>
                  <a:pt x="896" y="814"/>
                </a:cubicBezTo>
                <a:cubicBezTo>
                  <a:pt x="936" y="808"/>
                  <a:pt x="977" y="808"/>
                  <a:pt x="1015" y="795"/>
                </a:cubicBezTo>
                <a:cubicBezTo>
                  <a:pt x="1025" y="792"/>
                  <a:pt x="1028" y="758"/>
                  <a:pt x="1033" y="768"/>
                </a:cubicBezTo>
                <a:cubicBezTo>
                  <a:pt x="1046" y="795"/>
                  <a:pt x="1006" y="849"/>
                  <a:pt x="1006" y="8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08320" y="3324240"/>
            <a:ext cx="4354560" cy="1654200"/>
          </a:xfrm>
          <a:custGeom>
            <a:avLst/>
            <a:gdLst/>
            <a:ahLst/>
            <a:rect l="l" t="t" r="r" b="b"/>
            <a:pathLst>
              <a:path w="2743" h="1042">
                <a:moveTo>
                  <a:pt x="0" y="0"/>
                </a:moveTo>
                <a:cubicBezTo>
                  <a:pt x="40" y="79"/>
                  <a:pt x="54" y="175"/>
                  <a:pt x="119" y="237"/>
                </a:cubicBezTo>
                <a:cubicBezTo>
                  <a:pt x="154" y="327"/>
                  <a:pt x="115" y="252"/>
                  <a:pt x="164" y="301"/>
                </a:cubicBezTo>
                <a:cubicBezTo>
                  <a:pt x="187" y="324"/>
                  <a:pt x="205" y="352"/>
                  <a:pt x="228" y="375"/>
                </a:cubicBezTo>
                <a:cubicBezTo>
                  <a:pt x="276" y="424"/>
                  <a:pt x="395" y="476"/>
                  <a:pt x="466" y="493"/>
                </a:cubicBezTo>
                <a:cubicBezTo>
                  <a:pt x="545" y="490"/>
                  <a:pt x="625" y="494"/>
                  <a:pt x="704" y="484"/>
                </a:cubicBezTo>
                <a:cubicBezTo>
                  <a:pt x="749" y="478"/>
                  <a:pt x="804" y="393"/>
                  <a:pt x="804" y="393"/>
                </a:cubicBezTo>
                <a:cubicBezTo>
                  <a:pt x="821" y="325"/>
                  <a:pt x="827" y="291"/>
                  <a:pt x="768" y="247"/>
                </a:cubicBezTo>
                <a:cubicBezTo>
                  <a:pt x="734" y="250"/>
                  <a:pt x="699" y="245"/>
                  <a:pt x="667" y="256"/>
                </a:cubicBezTo>
                <a:cubicBezTo>
                  <a:pt x="658" y="259"/>
                  <a:pt x="658" y="274"/>
                  <a:pt x="658" y="283"/>
                </a:cubicBezTo>
                <a:cubicBezTo>
                  <a:pt x="658" y="286"/>
                  <a:pt x="641" y="461"/>
                  <a:pt x="685" y="512"/>
                </a:cubicBezTo>
                <a:cubicBezTo>
                  <a:pt x="722" y="555"/>
                  <a:pt x="844" y="593"/>
                  <a:pt x="896" y="612"/>
                </a:cubicBezTo>
                <a:cubicBezTo>
                  <a:pt x="1126" y="603"/>
                  <a:pt x="1283" y="673"/>
                  <a:pt x="1426" y="530"/>
                </a:cubicBezTo>
                <a:cubicBezTo>
                  <a:pt x="1432" y="515"/>
                  <a:pt x="1438" y="499"/>
                  <a:pt x="1444" y="484"/>
                </a:cubicBezTo>
                <a:cubicBezTo>
                  <a:pt x="1451" y="466"/>
                  <a:pt x="1463" y="429"/>
                  <a:pt x="1463" y="429"/>
                </a:cubicBezTo>
                <a:cubicBezTo>
                  <a:pt x="1460" y="417"/>
                  <a:pt x="1465" y="395"/>
                  <a:pt x="1453" y="393"/>
                </a:cubicBezTo>
                <a:cubicBezTo>
                  <a:pt x="1373" y="379"/>
                  <a:pt x="1368" y="403"/>
                  <a:pt x="1335" y="448"/>
                </a:cubicBezTo>
                <a:cubicBezTo>
                  <a:pt x="1317" y="514"/>
                  <a:pt x="1309" y="524"/>
                  <a:pt x="1335" y="621"/>
                </a:cubicBezTo>
                <a:cubicBezTo>
                  <a:pt x="1342" y="648"/>
                  <a:pt x="1399" y="673"/>
                  <a:pt x="1417" y="685"/>
                </a:cubicBezTo>
                <a:cubicBezTo>
                  <a:pt x="1481" y="728"/>
                  <a:pt x="1536" y="730"/>
                  <a:pt x="1609" y="740"/>
                </a:cubicBezTo>
                <a:cubicBezTo>
                  <a:pt x="1798" y="796"/>
                  <a:pt x="2002" y="757"/>
                  <a:pt x="2194" y="740"/>
                </a:cubicBezTo>
                <a:cubicBezTo>
                  <a:pt x="2230" y="723"/>
                  <a:pt x="2236" y="722"/>
                  <a:pt x="2267" y="695"/>
                </a:cubicBezTo>
                <a:cubicBezTo>
                  <a:pt x="2283" y="681"/>
                  <a:pt x="2313" y="649"/>
                  <a:pt x="2313" y="649"/>
                </a:cubicBezTo>
                <a:cubicBezTo>
                  <a:pt x="2347" y="543"/>
                  <a:pt x="2240" y="598"/>
                  <a:pt x="2203" y="612"/>
                </a:cubicBezTo>
                <a:cubicBezTo>
                  <a:pt x="2185" y="643"/>
                  <a:pt x="2143" y="669"/>
                  <a:pt x="2148" y="704"/>
                </a:cubicBezTo>
                <a:cubicBezTo>
                  <a:pt x="2156" y="759"/>
                  <a:pt x="2152" y="818"/>
                  <a:pt x="2176" y="868"/>
                </a:cubicBezTo>
                <a:cubicBezTo>
                  <a:pt x="2183" y="883"/>
                  <a:pt x="2224" y="908"/>
                  <a:pt x="2231" y="914"/>
                </a:cubicBezTo>
                <a:cubicBezTo>
                  <a:pt x="2284" y="959"/>
                  <a:pt x="2321" y="953"/>
                  <a:pt x="2395" y="960"/>
                </a:cubicBezTo>
                <a:cubicBezTo>
                  <a:pt x="2486" y="957"/>
                  <a:pt x="2578" y="957"/>
                  <a:pt x="2669" y="951"/>
                </a:cubicBezTo>
                <a:cubicBezTo>
                  <a:pt x="2743" y="947"/>
                  <a:pt x="2724" y="947"/>
                  <a:pt x="2724" y="104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90040" y="3338640"/>
            <a:ext cx="541080" cy="1145880"/>
          </a:xfrm>
          <a:custGeom>
            <a:avLst/>
            <a:gdLst/>
            <a:ahLst/>
            <a:rect l="l" t="t" r="r" b="b"/>
            <a:pathLst>
              <a:path w="341" h="722">
                <a:moveTo>
                  <a:pt x="259" y="0"/>
                </a:moveTo>
                <a:cubicBezTo>
                  <a:pt x="231" y="27"/>
                  <a:pt x="199" y="52"/>
                  <a:pt x="167" y="73"/>
                </a:cubicBezTo>
                <a:cubicBezTo>
                  <a:pt x="144" y="107"/>
                  <a:pt x="137" y="144"/>
                  <a:pt x="122" y="183"/>
                </a:cubicBezTo>
                <a:cubicBezTo>
                  <a:pt x="129" y="262"/>
                  <a:pt x="107" y="320"/>
                  <a:pt x="186" y="292"/>
                </a:cubicBezTo>
                <a:cubicBezTo>
                  <a:pt x="226" y="252"/>
                  <a:pt x="235" y="275"/>
                  <a:pt x="250" y="219"/>
                </a:cubicBezTo>
                <a:cubicBezTo>
                  <a:pt x="236" y="182"/>
                  <a:pt x="245" y="178"/>
                  <a:pt x="186" y="201"/>
                </a:cubicBezTo>
                <a:cubicBezTo>
                  <a:pt x="117" y="228"/>
                  <a:pt x="101" y="298"/>
                  <a:pt x="58" y="347"/>
                </a:cubicBezTo>
                <a:cubicBezTo>
                  <a:pt x="44" y="363"/>
                  <a:pt x="12" y="393"/>
                  <a:pt x="12" y="393"/>
                </a:cubicBezTo>
                <a:cubicBezTo>
                  <a:pt x="18" y="423"/>
                  <a:pt x="0" y="475"/>
                  <a:pt x="30" y="484"/>
                </a:cubicBezTo>
                <a:cubicBezTo>
                  <a:pt x="196" y="536"/>
                  <a:pt x="220" y="513"/>
                  <a:pt x="304" y="457"/>
                </a:cubicBezTo>
                <a:cubicBezTo>
                  <a:pt x="341" y="356"/>
                  <a:pt x="134" y="419"/>
                  <a:pt x="103" y="420"/>
                </a:cubicBezTo>
                <a:cubicBezTo>
                  <a:pt x="36" y="491"/>
                  <a:pt x="58" y="643"/>
                  <a:pt x="58" y="72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95480"/>
            <a:ext cx="3251160" cy="1981440"/>
          </a:xfrm>
          <a:custGeom>
            <a:avLst/>
            <a:gdLst/>
            <a:ahLst/>
            <a:rect l="l" t="t" r="r" b="b"/>
            <a:pathLst>
              <a:path w="2011" h="1141">
                <a:moveTo>
                  <a:pt x="2011" y="36"/>
                </a:moveTo>
                <a:cubicBezTo>
                  <a:pt x="1951" y="6"/>
                  <a:pt x="1956" y="0"/>
                  <a:pt x="1860" y="27"/>
                </a:cubicBezTo>
                <a:cubicBezTo>
                  <a:pt x="1838" y="33"/>
                  <a:pt x="1804" y="64"/>
                  <a:pt x="1804" y="64"/>
                </a:cubicBezTo>
                <a:cubicBezTo>
                  <a:pt x="1795" y="92"/>
                  <a:pt x="1789" y="127"/>
                  <a:pt x="1766" y="149"/>
                </a:cubicBezTo>
                <a:cubicBezTo>
                  <a:pt x="1751" y="164"/>
                  <a:pt x="1717" y="177"/>
                  <a:pt x="1700" y="187"/>
                </a:cubicBezTo>
                <a:cubicBezTo>
                  <a:pt x="1642" y="222"/>
                  <a:pt x="1653" y="215"/>
                  <a:pt x="1615" y="253"/>
                </a:cubicBezTo>
                <a:cubicBezTo>
                  <a:pt x="1594" y="175"/>
                  <a:pt x="1547" y="209"/>
                  <a:pt x="1482" y="225"/>
                </a:cubicBezTo>
                <a:cubicBezTo>
                  <a:pt x="1432" y="251"/>
                  <a:pt x="1437" y="266"/>
                  <a:pt x="1407" y="310"/>
                </a:cubicBezTo>
                <a:cubicBezTo>
                  <a:pt x="1399" y="363"/>
                  <a:pt x="1406" y="417"/>
                  <a:pt x="1350" y="442"/>
                </a:cubicBezTo>
                <a:cubicBezTo>
                  <a:pt x="1329" y="451"/>
                  <a:pt x="1306" y="455"/>
                  <a:pt x="1284" y="461"/>
                </a:cubicBezTo>
                <a:cubicBezTo>
                  <a:pt x="1255" y="481"/>
                  <a:pt x="1215" y="493"/>
                  <a:pt x="1190" y="518"/>
                </a:cubicBezTo>
                <a:cubicBezTo>
                  <a:pt x="1179" y="529"/>
                  <a:pt x="1174" y="547"/>
                  <a:pt x="1161" y="556"/>
                </a:cubicBezTo>
                <a:cubicBezTo>
                  <a:pt x="1140" y="570"/>
                  <a:pt x="1095" y="584"/>
                  <a:pt x="1067" y="593"/>
                </a:cubicBezTo>
                <a:cubicBezTo>
                  <a:pt x="1061" y="603"/>
                  <a:pt x="1052" y="611"/>
                  <a:pt x="1048" y="622"/>
                </a:cubicBezTo>
                <a:cubicBezTo>
                  <a:pt x="1042" y="640"/>
                  <a:pt x="1054" y="666"/>
                  <a:pt x="1039" y="678"/>
                </a:cubicBezTo>
                <a:cubicBezTo>
                  <a:pt x="1028" y="687"/>
                  <a:pt x="1014" y="665"/>
                  <a:pt x="1001" y="659"/>
                </a:cubicBezTo>
                <a:cubicBezTo>
                  <a:pt x="925" y="662"/>
                  <a:pt x="849" y="658"/>
                  <a:pt x="774" y="669"/>
                </a:cubicBezTo>
                <a:cubicBezTo>
                  <a:pt x="746" y="673"/>
                  <a:pt x="726" y="700"/>
                  <a:pt x="699" y="707"/>
                </a:cubicBezTo>
                <a:cubicBezTo>
                  <a:pt x="643" y="761"/>
                  <a:pt x="693" y="731"/>
                  <a:pt x="652" y="707"/>
                </a:cubicBezTo>
                <a:cubicBezTo>
                  <a:pt x="638" y="699"/>
                  <a:pt x="620" y="700"/>
                  <a:pt x="604" y="697"/>
                </a:cubicBezTo>
                <a:cubicBezTo>
                  <a:pt x="398" y="709"/>
                  <a:pt x="331" y="713"/>
                  <a:pt x="170" y="744"/>
                </a:cubicBezTo>
                <a:cubicBezTo>
                  <a:pt x="154" y="750"/>
                  <a:pt x="139" y="757"/>
                  <a:pt x="123" y="763"/>
                </a:cubicBezTo>
                <a:cubicBezTo>
                  <a:pt x="113" y="767"/>
                  <a:pt x="96" y="763"/>
                  <a:pt x="94" y="773"/>
                </a:cubicBezTo>
                <a:cubicBezTo>
                  <a:pt x="75" y="877"/>
                  <a:pt x="107" y="865"/>
                  <a:pt x="170" y="895"/>
                </a:cubicBezTo>
                <a:cubicBezTo>
                  <a:pt x="137" y="929"/>
                  <a:pt x="95" y="974"/>
                  <a:pt x="76" y="1018"/>
                </a:cubicBezTo>
                <a:cubicBezTo>
                  <a:pt x="68" y="1036"/>
                  <a:pt x="68" y="1058"/>
                  <a:pt x="57" y="1075"/>
                </a:cubicBezTo>
                <a:cubicBezTo>
                  <a:pt x="51" y="1084"/>
                  <a:pt x="43" y="1093"/>
                  <a:pt x="38" y="1103"/>
                </a:cubicBezTo>
                <a:cubicBezTo>
                  <a:pt x="33" y="1112"/>
                  <a:pt x="35" y="1125"/>
                  <a:pt x="28" y="1132"/>
                </a:cubicBezTo>
                <a:cubicBezTo>
                  <a:pt x="21" y="1139"/>
                  <a:pt x="0" y="1141"/>
                  <a:pt x="0" y="114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41840" y="3381480"/>
            <a:ext cx="2092320" cy="2209680"/>
          </a:xfrm>
          <a:custGeom>
            <a:avLst/>
            <a:gdLst/>
            <a:ahLst/>
            <a:rect l="l" t="t" r="r" b="b"/>
            <a:pathLst>
              <a:path w="1318" h="1392">
                <a:moveTo>
                  <a:pt x="1318" y="0"/>
                </a:moveTo>
                <a:cubicBezTo>
                  <a:pt x="1231" y="22"/>
                  <a:pt x="1156" y="81"/>
                  <a:pt x="1108" y="156"/>
                </a:cubicBezTo>
                <a:cubicBezTo>
                  <a:pt x="1105" y="183"/>
                  <a:pt x="1110" y="213"/>
                  <a:pt x="1099" y="238"/>
                </a:cubicBezTo>
                <a:cubicBezTo>
                  <a:pt x="1081" y="280"/>
                  <a:pt x="1007" y="312"/>
                  <a:pt x="971" y="329"/>
                </a:cubicBezTo>
                <a:cubicBezTo>
                  <a:pt x="965" y="335"/>
                  <a:pt x="960" y="343"/>
                  <a:pt x="953" y="348"/>
                </a:cubicBezTo>
                <a:cubicBezTo>
                  <a:pt x="944" y="355"/>
                  <a:pt x="927" y="355"/>
                  <a:pt x="925" y="366"/>
                </a:cubicBezTo>
                <a:cubicBezTo>
                  <a:pt x="918" y="400"/>
                  <a:pt x="1011" y="409"/>
                  <a:pt x="1026" y="412"/>
                </a:cubicBezTo>
                <a:cubicBezTo>
                  <a:pt x="1020" y="427"/>
                  <a:pt x="1019" y="446"/>
                  <a:pt x="1008" y="457"/>
                </a:cubicBezTo>
                <a:cubicBezTo>
                  <a:pt x="999" y="466"/>
                  <a:pt x="983" y="462"/>
                  <a:pt x="971" y="467"/>
                </a:cubicBezTo>
                <a:cubicBezTo>
                  <a:pt x="888" y="499"/>
                  <a:pt x="812" y="535"/>
                  <a:pt x="724" y="549"/>
                </a:cubicBezTo>
                <a:cubicBezTo>
                  <a:pt x="656" y="572"/>
                  <a:pt x="687" y="611"/>
                  <a:pt x="660" y="677"/>
                </a:cubicBezTo>
                <a:cubicBezTo>
                  <a:pt x="656" y="686"/>
                  <a:pt x="599" y="711"/>
                  <a:pt x="596" y="713"/>
                </a:cubicBezTo>
                <a:cubicBezTo>
                  <a:pt x="583" y="721"/>
                  <a:pt x="574" y="735"/>
                  <a:pt x="560" y="741"/>
                </a:cubicBezTo>
                <a:cubicBezTo>
                  <a:pt x="546" y="747"/>
                  <a:pt x="529" y="746"/>
                  <a:pt x="514" y="750"/>
                </a:cubicBezTo>
                <a:cubicBezTo>
                  <a:pt x="456" y="764"/>
                  <a:pt x="408" y="786"/>
                  <a:pt x="349" y="796"/>
                </a:cubicBezTo>
                <a:cubicBezTo>
                  <a:pt x="300" y="817"/>
                  <a:pt x="245" y="821"/>
                  <a:pt x="203" y="851"/>
                </a:cubicBezTo>
                <a:cubicBezTo>
                  <a:pt x="171" y="904"/>
                  <a:pt x="156" y="962"/>
                  <a:pt x="112" y="1006"/>
                </a:cubicBezTo>
                <a:cubicBezTo>
                  <a:pt x="105" y="1025"/>
                  <a:pt x="90" y="1041"/>
                  <a:pt x="84" y="1061"/>
                </a:cubicBezTo>
                <a:cubicBezTo>
                  <a:pt x="67" y="1121"/>
                  <a:pt x="61" y="1183"/>
                  <a:pt x="48" y="1244"/>
                </a:cubicBezTo>
                <a:cubicBezTo>
                  <a:pt x="45" y="1277"/>
                  <a:pt x="43" y="1311"/>
                  <a:pt x="38" y="1344"/>
                </a:cubicBezTo>
                <a:cubicBezTo>
                  <a:pt x="36" y="1357"/>
                  <a:pt x="35" y="1392"/>
                  <a:pt x="29" y="1381"/>
                </a:cubicBezTo>
                <a:cubicBezTo>
                  <a:pt x="18" y="1359"/>
                  <a:pt x="26" y="1332"/>
                  <a:pt x="20" y="1308"/>
                </a:cubicBezTo>
                <a:cubicBezTo>
                  <a:pt x="0" y="1235"/>
                  <a:pt x="2" y="1303"/>
                  <a:pt x="2" y="127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07120" y="3297240"/>
            <a:ext cx="1842840" cy="2158920"/>
          </a:xfrm>
          <a:custGeom>
            <a:avLst/>
            <a:gdLst/>
            <a:ahLst/>
            <a:rect l="l" t="t" r="r" b="b"/>
            <a:pathLst>
              <a:path w="1161" h="1360">
                <a:moveTo>
                  <a:pt x="1161" y="0"/>
                </a:moveTo>
                <a:cubicBezTo>
                  <a:pt x="1139" y="34"/>
                  <a:pt x="1115" y="50"/>
                  <a:pt x="1086" y="76"/>
                </a:cubicBezTo>
                <a:cubicBezTo>
                  <a:pt x="1066" y="94"/>
                  <a:pt x="1029" y="133"/>
                  <a:pt x="1029" y="133"/>
                </a:cubicBezTo>
                <a:cubicBezTo>
                  <a:pt x="1016" y="170"/>
                  <a:pt x="1005" y="186"/>
                  <a:pt x="972" y="208"/>
                </a:cubicBezTo>
                <a:cubicBezTo>
                  <a:pt x="957" y="255"/>
                  <a:pt x="928" y="244"/>
                  <a:pt x="944" y="293"/>
                </a:cubicBezTo>
                <a:cubicBezTo>
                  <a:pt x="921" y="351"/>
                  <a:pt x="890" y="392"/>
                  <a:pt x="859" y="444"/>
                </a:cubicBezTo>
                <a:cubicBezTo>
                  <a:pt x="847" y="464"/>
                  <a:pt x="834" y="482"/>
                  <a:pt x="821" y="501"/>
                </a:cubicBezTo>
                <a:cubicBezTo>
                  <a:pt x="815" y="510"/>
                  <a:pt x="802" y="529"/>
                  <a:pt x="802" y="529"/>
                </a:cubicBezTo>
                <a:cubicBezTo>
                  <a:pt x="815" y="535"/>
                  <a:pt x="836" y="535"/>
                  <a:pt x="840" y="548"/>
                </a:cubicBezTo>
                <a:cubicBezTo>
                  <a:pt x="851" y="580"/>
                  <a:pt x="785" y="608"/>
                  <a:pt x="774" y="614"/>
                </a:cubicBezTo>
                <a:cubicBezTo>
                  <a:pt x="765" y="627"/>
                  <a:pt x="758" y="642"/>
                  <a:pt x="746" y="652"/>
                </a:cubicBezTo>
                <a:cubicBezTo>
                  <a:pt x="677" y="709"/>
                  <a:pt x="756" y="601"/>
                  <a:pt x="698" y="690"/>
                </a:cubicBezTo>
                <a:cubicBezTo>
                  <a:pt x="749" y="833"/>
                  <a:pt x="513" y="914"/>
                  <a:pt x="406" y="926"/>
                </a:cubicBezTo>
                <a:cubicBezTo>
                  <a:pt x="368" y="930"/>
                  <a:pt x="330" y="932"/>
                  <a:pt x="292" y="935"/>
                </a:cubicBezTo>
                <a:cubicBezTo>
                  <a:pt x="320" y="1016"/>
                  <a:pt x="243" y="1047"/>
                  <a:pt x="179" y="1067"/>
                </a:cubicBezTo>
                <a:cubicBezTo>
                  <a:pt x="131" y="1141"/>
                  <a:pt x="115" y="1234"/>
                  <a:pt x="37" y="1285"/>
                </a:cubicBezTo>
                <a:cubicBezTo>
                  <a:pt x="28" y="1301"/>
                  <a:pt x="17" y="1316"/>
                  <a:pt x="9" y="1332"/>
                </a:cubicBezTo>
                <a:cubicBezTo>
                  <a:pt x="5" y="1341"/>
                  <a:pt x="0" y="1360"/>
                  <a:pt x="0" y="13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80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ng a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784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362320" y="1447920"/>
            <a:ext cx="510516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长山岛镇中心小学趣味运动会运动员申请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ass:____  Grade: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me: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281952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can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m going to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y mother/father can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’s/He’s going to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’re going to be the w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1447920"/>
            <a:ext cx="5943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inish the paper and read it in your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304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isten and fill in the blank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音补全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9144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you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752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es, I can. ____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514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429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can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267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can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3352680"/>
            <a:ext cx="182880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17524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438280" y="914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run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17668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an you run 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604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o, I ca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jump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14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5909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443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911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086600" y="5181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60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alog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you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752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es, I can. Can you___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514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429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can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267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can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9880" y="5029200"/>
            <a:ext cx="1600200" cy="121932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0" r="0" b="14064"/>
          <a:stretch/>
        </p:blipFill>
        <p:spPr>
          <a:xfrm>
            <a:off x="6934320" y="4952880"/>
            <a:ext cx="1523880" cy="12956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487520" cy="121932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3886200" y="2590920"/>
            <a:ext cx="1676520" cy="1190160"/>
            <a:chOff x="3886200" y="2590920"/>
            <a:chExt cx="1676520" cy="119016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3886200" y="2590920"/>
              <a:ext cx="1523880" cy="1143000"/>
            </a:xfrm>
            <a:prstGeom prst="rect">
              <a:avLst/>
            </a:prstGeom>
            <a:ln w="25560">
              <a:solidFill>
                <a:srgbClr val="ff00ff"/>
              </a:solidFill>
              <a:miter/>
            </a:ln>
          </p:spPr>
        </p:pic>
        <p:sp>
          <p:nvSpPr>
            <p:cNvPr id="79" name=""/>
            <p:cNvSpPr/>
            <p:nvPr/>
          </p:nvSpPr>
          <p:spPr>
            <a:xfrm>
              <a:off x="3962520" y="31996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cc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jump f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10080" y="3733920"/>
            <a:ext cx="1752840" cy="1311840"/>
            <a:chOff x="5410080" y="3733920"/>
            <a:chExt cx="1752840" cy="1311840"/>
          </a:xfrm>
        </p:grpSpPr>
        <p:sp>
          <p:nvSpPr>
            <p:cNvPr id="81" name=""/>
            <p:cNvSpPr/>
            <p:nvPr/>
          </p:nvSpPr>
          <p:spPr>
            <a:xfrm>
              <a:off x="5410080" y="3733920"/>
              <a:ext cx="1447920" cy="12189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2720" y="4525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un f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33520" y="91440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5909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814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7668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3670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23623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228600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352680" y="990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he run 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90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es, he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she run 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19954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o, she ca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he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4419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sh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618156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590920" y="2438280"/>
            <a:ext cx="4800600" cy="17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Let’s play a ga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悄悄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100" name=""/>
          <p:cNvSpPr/>
          <p:nvPr/>
        </p:nvSpPr>
        <p:spPr>
          <a:xfrm flipV="1">
            <a:off x="4648320" y="137124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27672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4114800"/>
            <a:ext cx="838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447920"/>
            <a:ext cx="10666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14600"/>
            <a:ext cx="1371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828800" y="388584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52320" y="4038480"/>
            <a:ext cx="38124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6858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051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335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2004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257800"/>
            <a:ext cx="1523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5627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w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73920" r="0" b="0"/>
          <a:stretch/>
        </p:blipFill>
        <p:spPr>
          <a:xfrm>
            <a:off x="2971800" y="3657600"/>
            <a:ext cx="19051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26093" r="0" b="26086"/>
          <a:stretch/>
        </p:blipFill>
        <p:spPr>
          <a:xfrm>
            <a:off x="2971800" y="2819520"/>
            <a:ext cx="190512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-4339" r="0" b="73914"/>
          <a:stretch/>
        </p:blipFill>
        <p:spPr>
          <a:xfrm>
            <a:off x="2971800" y="228600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uess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猜一猜！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an it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905120"/>
            <a:ext cx="2514600" cy="25146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848720" cy="640080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121" name=""/>
          <p:cNvSpPr/>
          <p:nvPr/>
        </p:nvSpPr>
        <p:spPr>
          <a:xfrm>
            <a:off x="3276720" y="5105520"/>
            <a:ext cx="5029200" cy="106884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tortoise and the hare are going to run a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684" t="11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6693" t="47769" r="15039" b="0"/>
          <a:stretch/>
        </p:blipFill>
        <p:spPr>
          <a:xfrm>
            <a:off x="685800" y="304920"/>
            <a:ext cx="7848720" cy="586728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25" name=""/>
          <p:cNvSpPr/>
          <p:nvPr/>
        </p:nvSpPr>
        <p:spPr>
          <a:xfrm>
            <a:off x="3352680" y="4876920"/>
            <a:ext cx="5029200" cy="106884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hare can run fast. The tortoise can’t run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7-12-15T00:33:12Z</dcterms:modified>
  <cp:revision>2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