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oin.wav" ContentType="audio/x-wav"/>
  <Override PartName="/ppt/media/image13.jpeg" ContentType="image/jpeg"/>
  <Override PartName="/ppt/media/image10.gif" ContentType="image/gif"/>
  <Override PartName="/ppt/media/image9.png" ContentType="image/png"/>
  <Override PartName="/ppt/media/image11.jpeg" ContentType="image/jpeg"/>
  <Override PartName="/ppt/media/suction.wav" ContentType="audio/x-wav"/>
  <Override PartName="/ppt/media/image4.jpeg" ContentType="image/jpeg"/>
  <Override PartName="/ppt/media/image8.png" ContentType="image/png"/>
  <Override PartName="/ppt/media/image7.gif" ContentType="image/gif"/>
  <Override PartName="/ppt/media/image5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25.gif" ContentType="image/gif"/>
  <Override PartName="/ppt/media/image17.png" ContentType="image/pn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chimes.wav" ContentType="audio/x-wav"/>
  <Override PartName="/ppt/media/image12.png" ContentType="image/png"/>
  <Override PartName="/ppt/media/image3.jpeg" ContentType="image/jpeg"/>
  <Override PartName="/ppt/media/image15.png" ContentType="image/pn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8CA-A596-4FCE-B22A-DCDB6D80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FCB-936E-4F52-A28E-F0FA9F50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F404-49F2-4B9D-8894-FFDF15C1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19CF-4A62-43A5-B198-1FFDF6D8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DBA4-1FDE-4A76-9F35-427D581A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06C-36E2-4D8E-91B7-8C5B961E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CD9-DB10-4E1C-942C-021CC450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97D5-8EBF-4A8B-8B64-20212F81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B7CA-5669-41D9-8059-BB979097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44D-91FB-4E5A-B528-3AC79ED0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889-8472-4D89-B608-1D77E252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AF8C-3C4C-4848-9E50-864A66D0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0A75-C9ED-4D41-A92D-959E2C656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image" Target="../media/image10.gif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1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image" Target="../media/image10.gif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76db8cbf978d0ae18e409dad609e114"/>
          <p:cNvPicPr/>
          <p:nvPr/>
        </p:nvPicPr>
        <p:blipFill>
          <a:blip r:embed="rId1"/>
          <a:srcRect l="3846" t="12207" r="3289" b="9058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1042920" y="213372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0000cc"/>
                </a:solidFill>
                <a:latin typeface="Comic Sans MS"/>
              </a:rPr>
              <a:t>Review Module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55840" y="5373720"/>
            <a:ext cx="51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块石小学   王莺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8268" t="2448" r="32679" b="4190"/>
          <a:stretch/>
        </p:blipFill>
        <p:spPr>
          <a:xfrm>
            <a:off x="0" y="25560"/>
            <a:ext cx="8893080" cy="6832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rcRect l="1606" t="8591" r="4678" b="33425"/>
          <a:stretch/>
        </p:blipFill>
        <p:spPr>
          <a:xfrm>
            <a:off x="826920" y="2637000"/>
            <a:ext cx="3383280" cy="3055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572000" y="1844640"/>
            <a:ext cx="38512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6120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333360"/>
            <a:ext cx="852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Where is …?      It`s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between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2943360" cy="2881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84720" y="2276640"/>
            <a:ext cx="2438640" cy="2952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2952720" cy="3286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333360"/>
            <a:ext cx="852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Where is … ?      It`s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between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132000" y="1916280"/>
            <a:ext cx="2735280" cy="3889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3024360" cy="3960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435640" y="1916280"/>
            <a:ext cx="3097080" cy="3889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333360"/>
            <a:ext cx="852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Where is …?      It`s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between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496360" cy="5543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0920" y="189000"/>
            <a:ext cx="852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Where is … ?      It`s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between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0"/>
            <a:ext cx="6193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hinese people invented _____things.  ____people invented ____and _____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o we _____books and newspapers .Chinese people are very ____. But they didn`t invent this____ and this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1871640" cy="1873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983280" y="148428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2010071451127329"/>
          <p:cNvPicPr/>
          <p:nvPr/>
        </p:nvPicPr>
        <p:blipFill>
          <a:blip r:embed="rId3"/>
          <a:stretch/>
        </p:blipFill>
        <p:spPr>
          <a:xfrm>
            <a:off x="2411280" y="4581360"/>
            <a:ext cx="3097440" cy="1916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940360" y="3573360"/>
            <a:ext cx="302436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fda08d0f5f1f1cde94279d0a1baee75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>
            <a:off x="1332000" y="907920"/>
            <a:ext cx="446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Arial Black"/>
              </a:rPr>
              <a:t>Homework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68360" y="3284640"/>
            <a:ext cx="8136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听录音，朗读课文，模仿语音语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向父母或朋友介绍中国古代发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抄写单词和功能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32000" y="227664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33360"/>
            <a:ext cx="9972720" cy="64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Listen ,sing and answ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A: What did Chinese people  invent for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B: Chinese people invented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98100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64000" y="62064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8604360" y="5734080"/>
            <a:ext cx="341280" cy="615960"/>
          </a:xfrm>
          <a:prstGeom prst="downArrow">
            <a:avLst>
              <a:gd name="adj1" fmla="val 50000"/>
              <a:gd name="adj2" fmla="val 451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66760" y="1125360"/>
            <a:ext cx="621360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谈论发明及方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-171360"/>
            <a:ext cx="9807480" cy="71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Read and answer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自读课文，回答问题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Did Chinese people invent many important th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they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Do we print books and newspapers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we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What did Sam do yesterda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printed our class newspaper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Where is our class news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Are Chinese people cle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79736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t`s between the cha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6021360"/>
            <a:ext cx="26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they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3" descr="zhinanzhen 1"/>
          <p:cNvPicPr/>
          <p:nvPr/>
        </p:nvPicPr>
        <p:blipFill>
          <a:blip r:embed="rId1"/>
          <a:stretch/>
        </p:blipFill>
        <p:spPr>
          <a:xfrm>
            <a:off x="0" y="3500280"/>
            <a:ext cx="4175280" cy="3357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造纸1"/>
          <p:cNvPicPr/>
          <p:nvPr/>
        </p:nvPicPr>
        <p:blipFill>
          <a:blip r:embed="rId2"/>
          <a:stretch/>
        </p:blipFill>
        <p:spPr>
          <a:xfrm>
            <a:off x="4643280" y="3645000"/>
            <a:ext cx="4032360" cy="261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火药1"/>
          <p:cNvPicPr/>
          <p:nvPr/>
        </p:nvPicPr>
        <p:blipFill>
          <a:blip r:embed="rId3"/>
          <a:stretch/>
        </p:blipFill>
        <p:spPr>
          <a:xfrm>
            <a:off x="4716360" y="333360"/>
            <a:ext cx="4103640" cy="302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印刷术1"/>
          <p:cNvPicPr/>
          <p:nvPr/>
        </p:nvPicPr>
        <p:blipFill>
          <a:blip r:embed="rId4"/>
          <a:stretch/>
        </p:blipFill>
        <p:spPr>
          <a:xfrm>
            <a:off x="468360" y="333360"/>
            <a:ext cx="3924360" cy="3024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6"/>
          <p:cNvSpPr/>
          <p:nvPr/>
        </p:nvSpPr>
        <p:spPr>
          <a:xfrm>
            <a:off x="1332000" y="6021360"/>
            <a:ext cx="2735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7"/>
          <p:cNvSpPr/>
          <p:nvPr/>
        </p:nvSpPr>
        <p:spPr>
          <a:xfrm>
            <a:off x="468360" y="2708280"/>
            <a:ext cx="1727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8"/>
          <p:cNvSpPr/>
          <p:nvPr/>
        </p:nvSpPr>
        <p:spPr>
          <a:xfrm>
            <a:off x="6227640" y="189000"/>
            <a:ext cx="23050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n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9"/>
          <p:cNvSpPr/>
          <p:nvPr/>
        </p:nvSpPr>
        <p:spPr>
          <a:xfrm>
            <a:off x="6948360" y="5950080"/>
            <a:ext cx="1871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8268" t="2448" r="32679" b="4190"/>
          <a:stretch/>
        </p:blipFill>
        <p:spPr>
          <a:xfrm>
            <a:off x="0" y="1700280"/>
            <a:ext cx="6713640" cy="5157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1080" y="981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inese people didn’t  inven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890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inese people invent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92720" y="2349360"/>
            <a:ext cx="3851280" cy="399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619280" y="2708280"/>
            <a:ext cx="35290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92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192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192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192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8268" t="2448" r="32679" b="4190"/>
          <a:stretch/>
        </p:blipFill>
        <p:spPr>
          <a:xfrm>
            <a:off x="0" y="1700280"/>
            <a:ext cx="6713640" cy="5157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81080" y="981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inese people didn’t  inven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890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inese people invent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9072" t="14528" r="6260" b="35803"/>
          <a:stretch/>
        </p:blipFill>
        <p:spPr>
          <a:xfrm>
            <a:off x="971640" y="2492280"/>
            <a:ext cx="3960720" cy="3392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257800" y="2349360"/>
            <a:ext cx="385128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8268" t="2448" r="32679" b="4190"/>
          <a:stretch/>
        </p:blipFill>
        <p:spPr>
          <a:xfrm>
            <a:off x="0" y="25560"/>
            <a:ext cx="8893080" cy="6832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84720" y="1484280"/>
            <a:ext cx="3851280" cy="39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rcRect l="8268" t="2448" r="32679" b="4190"/>
          <a:stretch/>
        </p:blipFill>
        <p:spPr>
          <a:xfrm>
            <a:off x="216000" y="241200"/>
            <a:ext cx="8893080" cy="6832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2010071451127329"/>
          <p:cNvPicPr/>
          <p:nvPr/>
        </p:nvPicPr>
        <p:blipFill>
          <a:blip r:embed="rId4"/>
          <a:stretch/>
        </p:blipFill>
        <p:spPr>
          <a:xfrm>
            <a:off x="755640" y="2421000"/>
            <a:ext cx="3673440" cy="3168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788000" y="1916280"/>
            <a:ext cx="38512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8268" t="2448" r="32679" b="4190"/>
          <a:stretch/>
        </p:blipFill>
        <p:spPr>
          <a:xfrm>
            <a:off x="0" y="25560"/>
            <a:ext cx="8893080" cy="6832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4305240" cy="4572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500720" y="1628640"/>
            <a:ext cx="385128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09:17:47Z</dcterms:created>
  <dc:creator>微软用户</dc:creator>
  <dc:description/>
  <cp:keywords/>
  <dc:language>en-US</dc:language>
  <cp:lastModifiedBy>ss</cp:lastModifiedBy>
  <dcterms:modified xsi:type="dcterms:W3CDTF">2017-10-23T09:32:48Z</dcterms:modified>
  <cp:revision>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