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28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chimes.wav" ContentType="audio/x-wav"/>
  <Override PartName="/ppt/media/image4.jpeg" ContentType="image/jpeg"/>
  <Override PartName="/ppt/media/image25.jpeg" ContentType="image/jpeg"/>
  <Override PartName="/ppt/media/image12.png" ContentType="image/png"/>
  <Override PartName="/ppt/media/image3.gif" ContentType="image/gif"/>
  <Override PartName="/ppt/media/image6.png" ContentType="image/png"/>
  <Override PartName="/ppt/media/image27.png" ContentType="image/png"/>
  <Override PartName="/ppt/media/image15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2.gif" ContentType="image/gif"/>
  <Override PartName="/ppt/media/image11.png" ContentType="image/png"/>
  <Override PartName="/ppt/media/image17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F600-0FD5-4661-A3D6-08EA1905F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C214-3696-4A00-AAB5-5FA7F423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4EE-4E3A-415D-B9F2-11DA9689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C8E5-D846-412E-AB1F-8FB5BDBD6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82ED-2BA4-4A4F-947C-F37A4FCB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FBC7-C190-4437-9C21-F65EF334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7474-B20F-4EA3-93F8-1673C034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B95-645C-4DDC-93BF-23CFA5BE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C762-12EA-410A-A652-39A4D2CC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BCC6-B73B-4BB6-8A8C-915DA8A9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7A7-E66A-4CFC-AA96-0598CD87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311-610F-45C1-81C0-143AB866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3FBF-C0C1-4520-A3C9-27826C28B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neteas-spring1024-768k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28600" y="2438280"/>
            <a:ext cx="8686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It will rain in Beijing.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" name="Picture 7" descr="课件图"/>
          <p:cNvPicPr/>
          <p:nvPr/>
        </p:nvPicPr>
        <p:blipFill>
          <a:blip r:embed="rId2"/>
          <a:stretch/>
        </p:blipFill>
        <p:spPr>
          <a:xfrm>
            <a:off x="2590920" y="0"/>
            <a:ext cx="4400280" cy="1749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蘑菇"/>
          <p:cNvPicPr/>
          <p:nvPr/>
        </p:nvPicPr>
        <p:blipFill>
          <a:blip r:embed="rId3"/>
          <a:stretch/>
        </p:blipFill>
        <p:spPr>
          <a:xfrm>
            <a:off x="250920" y="4941720"/>
            <a:ext cx="1727280" cy="155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260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59280" y="479736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四块石小学        张力群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rcRect l="43751" t="64004" r="51250" b="24002"/>
          <a:stretch/>
        </p:blipFill>
        <p:spPr>
          <a:xfrm>
            <a:off x="2700360" y="-171360"/>
            <a:ext cx="335268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514600" y="4572000"/>
            <a:ext cx="6629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hot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67202" t="46133" r="30002" b="50598"/>
          <a:stretch/>
        </p:blipFill>
        <p:spPr>
          <a:xfrm>
            <a:off x="1066680" y="609480"/>
            <a:ext cx="563904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371600" y="4038480"/>
            <a:ext cx="6629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cold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太阳"/>
          <p:cNvPicPr/>
          <p:nvPr/>
        </p:nvPicPr>
        <p:blipFill>
          <a:blip r:embed="rId1"/>
          <a:stretch/>
        </p:blipFill>
        <p:spPr>
          <a:xfrm>
            <a:off x="2484360" y="1700280"/>
            <a:ext cx="2158920" cy="2160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太阳"/>
          <p:cNvPicPr/>
          <p:nvPr/>
        </p:nvPicPr>
        <p:blipFill>
          <a:blip r:embed="rId2"/>
          <a:stretch/>
        </p:blipFill>
        <p:spPr>
          <a:xfrm>
            <a:off x="4716360" y="1700280"/>
            <a:ext cx="2232000" cy="2232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2050920" y="3860640"/>
            <a:ext cx="6629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0000"/>
                </a:solidFill>
                <a:latin typeface="Comic Sans MS"/>
              </a:rPr>
              <a:t>warm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u=2843551874,50224992&amp;fm=0&amp;gp=44"/>
          <p:cNvPicPr/>
          <p:nvPr/>
        </p:nvPicPr>
        <p:blipFill>
          <a:blip r:embed="rId1"/>
          <a:stretch/>
        </p:blipFill>
        <p:spPr>
          <a:xfrm>
            <a:off x="1908000" y="1484280"/>
            <a:ext cx="5400720" cy="42642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2411280" y="5877000"/>
            <a:ext cx="407700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Weather Report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2" name="Picture 4" descr="F008"/>
          <p:cNvPicPr/>
          <p:nvPr/>
        </p:nvPicPr>
        <p:blipFill>
          <a:blip r:embed="rId2"/>
          <a:stretch/>
        </p:blipFill>
        <p:spPr>
          <a:xfrm>
            <a:off x="3203640" y="-171360"/>
            <a:ext cx="2376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189000"/>
            <a:ext cx="9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at will the weather be like tomorrow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a00"/>
          <p:cNvPicPr/>
          <p:nvPr/>
        </p:nvPicPr>
        <p:blipFill>
          <a:blip r:embed="rId2"/>
          <a:stretch/>
        </p:blipFill>
        <p:spPr>
          <a:xfrm>
            <a:off x="7380360" y="3357720"/>
            <a:ext cx="1152360" cy="96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a12"/>
          <p:cNvPicPr/>
          <p:nvPr/>
        </p:nvPicPr>
        <p:blipFill>
          <a:blip r:embed="rId3"/>
          <a:stretch/>
        </p:blipFill>
        <p:spPr>
          <a:xfrm>
            <a:off x="7164360" y="981000"/>
            <a:ext cx="1081080" cy="89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a13"/>
          <p:cNvPicPr/>
          <p:nvPr/>
        </p:nvPicPr>
        <p:blipFill>
          <a:blip r:embed="rId4"/>
          <a:stretch/>
        </p:blipFill>
        <p:spPr>
          <a:xfrm>
            <a:off x="7524720" y="2276640"/>
            <a:ext cx="936720" cy="8697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564000" y="3500280"/>
            <a:ext cx="410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will be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_____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3635280" y="4508640"/>
            <a:ext cx="40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will be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_____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3708360" y="2349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will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_____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708360" y="126828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will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____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5"/>
          <a:srcRect l="43751" t="64004" r="51250" b="24002"/>
          <a:stretch/>
        </p:blipFill>
        <p:spPr>
          <a:xfrm>
            <a:off x="7885080" y="5661000"/>
            <a:ext cx="592200" cy="890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9640" y="1341360"/>
            <a:ext cx="28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Beijing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42100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Harbin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350028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Dalian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4437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Xi’an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51664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 Guangzhou,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3708360" y="5516640"/>
            <a:ext cx="40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 will be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_____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6"/>
          <a:srcRect l="20342" t="62365" r="74320" b="29000"/>
          <a:stretch/>
        </p:blipFill>
        <p:spPr>
          <a:xfrm>
            <a:off x="7740720" y="4437000"/>
            <a:ext cx="10414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talking"/>
          <p:cNvPicPr/>
          <p:nvPr/>
        </p:nvPicPr>
        <p:blipFill>
          <a:blip r:embed="rId1"/>
          <a:stretch/>
        </p:blipFill>
        <p:spPr>
          <a:xfrm>
            <a:off x="0" y="0"/>
            <a:ext cx="2351160" cy="2362320"/>
          </a:xfrm>
          <a:prstGeom prst="rect">
            <a:avLst/>
          </a:prstGeom>
          <a:ln w="0">
            <a:noFill/>
          </a:ln>
        </p:spPr>
      </p:pic>
      <p:sp>
        <p:nvSpPr>
          <p:cNvPr id="90" name="WordArt 3"/>
          <p:cNvSpPr txBox="1"/>
          <p:nvPr/>
        </p:nvSpPr>
        <p:spPr>
          <a:xfrm>
            <a:off x="2438280" y="304920"/>
            <a:ext cx="62866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let's play game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739960" y="152892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(Where   am   I?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64240" y="2282760"/>
            <a:ext cx="7207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</a:rPr>
              <a:t>For example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 will 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snow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morrow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am I?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 are 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in  Harbin.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        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3141720"/>
            <a:ext cx="179280" cy="2900160"/>
          </a:xfrm>
          <a:custGeom>
            <a:avLst/>
            <a:gdLst>
              <a:gd name="textAreaLeft" fmla="*/ 114480 w 179280"/>
              <a:gd name="textAreaRight" fmla="*/ 179640 w 179280"/>
              <a:gd name="textAreaTop" fmla="*/ 75240 h 2900160"/>
              <a:gd name="textAreaBottom" fmla="*/ 2824920 h 29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talking"/>
          <p:cNvPicPr/>
          <p:nvPr/>
        </p:nvPicPr>
        <p:blipFill>
          <a:blip r:embed="rId1"/>
          <a:stretch/>
        </p:blipFill>
        <p:spPr>
          <a:xfrm>
            <a:off x="0" y="0"/>
            <a:ext cx="2351160" cy="2362320"/>
          </a:xfrm>
          <a:prstGeom prst="rect">
            <a:avLst/>
          </a:prstGeom>
          <a:ln w="0">
            <a:noFill/>
          </a:ln>
        </p:spPr>
      </p:pic>
      <p:sp>
        <p:nvSpPr>
          <p:cNvPr id="95" name="WordArt 3"/>
          <p:cNvSpPr txBox="1"/>
          <p:nvPr/>
        </p:nvSpPr>
        <p:spPr>
          <a:xfrm>
            <a:off x="2438280" y="304920"/>
            <a:ext cx="62866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let's play game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739960" y="152892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(Where   am   I?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71440" y="2249640"/>
            <a:ext cx="52995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rain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morrow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am I?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 are in 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0" y="3141720"/>
            <a:ext cx="179280" cy="2900160"/>
          </a:xfrm>
          <a:custGeom>
            <a:avLst/>
            <a:gdLst>
              <a:gd name="textAreaLeft" fmla="*/ 114480 w 179280"/>
              <a:gd name="textAreaRight" fmla="*/ 179640 w 179280"/>
              <a:gd name="textAreaTop" fmla="*/ 75240 h 2900160"/>
              <a:gd name="textAreaBottom" fmla="*/ 2824920 h 29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843280" y="53737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</a:rPr>
              <a:t>Beijing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talking"/>
          <p:cNvPicPr/>
          <p:nvPr/>
        </p:nvPicPr>
        <p:blipFill>
          <a:blip r:embed="rId1"/>
          <a:stretch/>
        </p:blipFill>
        <p:spPr>
          <a:xfrm>
            <a:off x="0" y="0"/>
            <a:ext cx="2351160" cy="2362320"/>
          </a:xfrm>
          <a:prstGeom prst="rect">
            <a:avLst/>
          </a:prstGeom>
          <a:ln w="0">
            <a:noFill/>
          </a:ln>
        </p:spPr>
      </p:pic>
      <p:sp>
        <p:nvSpPr>
          <p:cNvPr id="101" name="WordArt 3"/>
          <p:cNvSpPr txBox="1"/>
          <p:nvPr/>
        </p:nvSpPr>
        <p:spPr>
          <a:xfrm>
            <a:off x="2438280" y="304920"/>
            <a:ext cx="62866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let's play game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739960" y="152892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(Where   am   I?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72520" y="2249640"/>
            <a:ext cx="5735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 will  be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ho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morrow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am I?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 are in 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0" y="3141720"/>
            <a:ext cx="179280" cy="2900160"/>
          </a:xfrm>
          <a:custGeom>
            <a:avLst/>
            <a:gdLst>
              <a:gd name="textAreaLeft" fmla="*/ 114480 w 179280"/>
              <a:gd name="textAreaRight" fmla="*/ 179640 w 179280"/>
              <a:gd name="textAreaTop" fmla="*/ 75240 h 2900160"/>
              <a:gd name="textAreaBottom" fmla="*/ 2824920 h 29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84328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</a:rPr>
              <a:t>Guangzhou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talking"/>
          <p:cNvPicPr/>
          <p:nvPr/>
        </p:nvPicPr>
        <p:blipFill>
          <a:blip r:embed="rId1"/>
          <a:stretch/>
        </p:blipFill>
        <p:spPr>
          <a:xfrm>
            <a:off x="0" y="0"/>
            <a:ext cx="2351160" cy="2362320"/>
          </a:xfrm>
          <a:prstGeom prst="rect">
            <a:avLst/>
          </a:prstGeom>
          <a:ln w="0">
            <a:noFill/>
          </a:ln>
        </p:spPr>
      </p:pic>
      <p:sp>
        <p:nvSpPr>
          <p:cNvPr id="107" name="WordArt 3"/>
          <p:cNvSpPr txBox="1"/>
          <p:nvPr/>
        </p:nvSpPr>
        <p:spPr>
          <a:xfrm>
            <a:off x="2438280" y="304920"/>
            <a:ext cx="62866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let's play game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739960" y="152892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(Where   am   I?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73600" y="2249640"/>
            <a:ext cx="6355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 will  be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windy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morrow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am I?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 are in 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0" y="3141720"/>
            <a:ext cx="179280" cy="2900160"/>
          </a:xfrm>
          <a:custGeom>
            <a:avLst/>
            <a:gdLst>
              <a:gd name="textAreaLeft" fmla="*/ 114480 w 179280"/>
              <a:gd name="textAreaRight" fmla="*/ 179640 w 179280"/>
              <a:gd name="textAreaTop" fmla="*/ 75240 h 2900160"/>
              <a:gd name="textAreaBottom" fmla="*/ 2824920 h 29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284328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</a:rPr>
              <a:t>Xi'an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talking"/>
          <p:cNvPicPr/>
          <p:nvPr/>
        </p:nvPicPr>
        <p:blipFill>
          <a:blip r:embed="rId1"/>
          <a:stretch/>
        </p:blipFill>
        <p:spPr>
          <a:xfrm>
            <a:off x="0" y="0"/>
            <a:ext cx="2351160" cy="2362320"/>
          </a:xfrm>
          <a:prstGeom prst="rect">
            <a:avLst/>
          </a:prstGeom>
          <a:ln w="0">
            <a:noFill/>
          </a:ln>
        </p:spPr>
      </p:pic>
      <p:sp>
        <p:nvSpPr>
          <p:cNvPr id="113" name="WordArt 3"/>
          <p:cNvSpPr txBox="1"/>
          <p:nvPr/>
        </p:nvSpPr>
        <p:spPr>
          <a:xfrm>
            <a:off x="2438280" y="304920"/>
            <a:ext cx="62866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let's play game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739960" y="152892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Times New Roman"/>
              </a:rPr>
              <a:t>(Where   am   I?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72880" y="2249640"/>
            <a:ext cx="6328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 will  be </a:t>
            </a:r>
            <a:r>
              <a:rPr b="1" lang="en-US" sz="4000" spc="-1" strike="noStrike" u="sng">
                <a:solidFill>
                  <a:srgbClr val="cc00cc"/>
                </a:solidFill>
                <a:uFillTx/>
                <a:latin typeface="Times New Roman"/>
              </a:rPr>
              <a:t>sunny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morrow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re am I?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 are in 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0" y="3141720"/>
            <a:ext cx="179280" cy="2900160"/>
          </a:xfrm>
          <a:custGeom>
            <a:avLst/>
            <a:gdLst>
              <a:gd name="textAreaLeft" fmla="*/ 114480 w 179280"/>
              <a:gd name="textAreaRight" fmla="*/ 179640 w 179280"/>
              <a:gd name="textAreaTop" fmla="*/ 75240 h 2900160"/>
              <a:gd name="textAreaBottom" fmla="*/ 2824920 h 29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843280" y="537372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ff"/>
                </a:solidFill>
                <a:uFillTx/>
                <a:latin typeface="Times New Roman"/>
              </a:rPr>
              <a:t>Dalian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"/>
          <p:cNvSpPr/>
          <p:nvPr/>
        </p:nvSpPr>
        <p:spPr>
          <a:xfrm>
            <a:off x="539640" y="1557360"/>
            <a:ext cx="7718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_____________ in Harbin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 will _____________ in Tianjin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_________ in beijing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will _________ in Naning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3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sten and cha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heavy rain shower"/>
          <p:cNvPicPr/>
          <p:nvPr/>
        </p:nvPicPr>
        <p:blipFill>
          <a:blip r:embed="rId1"/>
          <a:stretch/>
        </p:blipFill>
        <p:spPr>
          <a:xfrm>
            <a:off x="2484360" y="260280"/>
            <a:ext cx="3672000" cy="24922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900000" y="2708280"/>
            <a:ext cx="79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ain /  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1" lang="en-US" sz="8000" spc="-1" strike="noStrike">
                <a:solidFill>
                  <a:srgbClr val="ff3300"/>
                </a:solidFill>
                <a:latin typeface="Arial"/>
              </a:rPr>
              <a:t>y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44360" y="5229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It will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 be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rainy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755640" y="39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It will</a:t>
            </a:r>
            <a:r>
              <a:rPr b="1" lang="en-US" sz="7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rain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25_heavy_shower_night"/>
          <p:cNvPicPr/>
          <p:nvPr/>
        </p:nvPicPr>
        <p:blipFill>
          <a:blip r:embed="rId1"/>
          <a:stretch/>
        </p:blipFill>
        <p:spPr>
          <a:xfrm>
            <a:off x="2268360" y="260280"/>
            <a:ext cx="3743640" cy="2205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3"/>
          <p:cNvSpPr/>
          <p:nvPr/>
        </p:nvSpPr>
        <p:spPr>
          <a:xfrm>
            <a:off x="1692360" y="263700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now/snow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y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84360" y="335772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It will snow.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68360" y="4941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 will 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be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snowy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sunny day"/>
          <p:cNvPicPr/>
          <p:nvPr/>
        </p:nvPicPr>
        <p:blipFill>
          <a:blip r:embed="rId1"/>
          <a:stretch/>
        </p:blipFill>
        <p:spPr>
          <a:xfrm>
            <a:off x="2627280" y="404640"/>
            <a:ext cx="3745080" cy="27813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3132000" y="3357720"/>
            <a:ext cx="446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unny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486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It will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 be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sunny.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405440" y="1628640"/>
            <a:ext cx="2794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It will</a:t>
            </a:r>
            <a:r>
              <a:rPr b="0" lang="en-US" sz="6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4859280" y="549360"/>
            <a:ext cx="380880" cy="2971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5486400" y="5181480"/>
            <a:ext cx="380880" cy="1219320"/>
          </a:xfrm>
          <a:custGeom>
            <a:avLst/>
            <a:gdLst>
              <a:gd name="textAreaLeft" fmla="*/ 243360 w 380880"/>
              <a:gd name="textAreaRight" fmla="*/ 381240 w 3808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219640" y="-171360"/>
            <a:ext cx="4572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sunn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y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cloud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rain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wind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snow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hot /cold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e warm/coo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398600" y="5084640"/>
            <a:ext cx="2854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It wil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6227640" y="4221000"/>
            <a:ext cx="251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rai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wind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Comic Sans MS"/>
              </a:rPr>
              <a:t>snow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7499" t="23001" r="52502" b="30001"/>
          <a:stretch/>
        </p:blipFill>
        <p:spPr>
          <a:xfrm>
            <a:off x="0" y="0"/>
            <a:ext cx="9144000" cy="6715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2819520" y="-7632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Comic Sans MS"/>
              </a:rPr>
              <a:t>China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rcRect l="67491" t="24002" r="25432" b="44003"/>
          <a:stretch/>
        </p:blipFill>
        <p:spPr>
          <a:xfrm>
            <a:off x="0" y="476280"/>
            <a:ext cx="1968480" cy="5562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3"/>
          <a:srcRect l="44103" t="44003" r="51250" b="48004"/>
          <a:stretch/>
        </p:blipFill>
        <p:spPr>
          <a:xfrm>
            <a:off x="6084720" y="2565360"/>
            <a:ext cx="6685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549360"/>
            <a:ext cx="986616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Times New Roman"/>
              </a:rPr>
              <a:t>Ask and answ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What will the weather 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 like  in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Harbin/ Lhasa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Xian/ Shanghai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                    </a:t>
            </a: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Guangzhou ?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-228600"/>
            <a:ext cx="9829800" cy="7086600"/>
            <a:chOff x="0" y="-228600"/>
            <a:chExt cx="9829800" cy="7086600"/>
          </a:xfrm>
        </p:grpSpPr>
        <p:pic>
          <p:nvPicPr>
            <p:cNvPr id="141" name="Picture 3" descr=""/>
            <p:cNvPicPr/>
            <p:nvPr/>
          </p:nvPicPr>
          <p:blipFill>
            <a:blip r:embed="rId1"/>
            <a:srcRect l="23126" t="27002" r="29654" b="16000"/>
            <a:stretch/>
          </p:blipFill>
          <p:spPr>
            <a:xfrm>
              <a:off x="0" y="-39600"/>
              <a:ext cx="9144000" cy="689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4"/>
            <p:cNvSpPr/>
            <p:nvPr/>
          </p:nvSpPr>
          <p:spPr>
            <a:xfrm>
              <a:off x="8229600" y="-228600"/>
              <a:ext cx="1600200" cy="419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Oval 5"/>
          <p:cNvSpPr/>
          <p:nvPr/>
        </p:nvSpPr>
        <p:spPr>
          <a:xfrm>
            <a:off x="1066680" y="3809880"/>
            <a:ext cx="6858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6019920" y="990720"/>
            <a:ext cx="83808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4419720" y="5181480"/>
            <a:ext cx="9144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8"/>
          <p:cNvSpPr/>
          <p:nvPr/>
        </p:nvSpPr>
        <p:spPr>
          <a:xfrm>
            <a:off x="5943600" y="3505320"/>
            <a:ext cx="9144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3733920" y="3276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-5760" y="-96840"/>
            <a:ext cx="633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et’s  do  some  exercises!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765000"/>
            <a:ext cx="87631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____   you  going  to do 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 ______ going  to  swim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is ,   are  B am ,are C  are ,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 ____ going  to  have   a  picnic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am     B  is     C a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's  going  to _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rain   B raining      C  rain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342160" y="836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126160" y="3213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424040" y="49370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380880" y="765000"/>
            <a:ext cx="8763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will the weather be  _____ today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going  B   like C  b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’s  going   to  be _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snow    B rain   C  cloud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 will  ________ warm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be   B  is   C   a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7237440" y="76500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3648600" y="49021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5474880" y="3078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0"/>
            <a:ext cx="876312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’s  going   to  be_________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snowy    B rain   C  win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A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______  are  you  going  to do your  homework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B: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  am  going to do my homework     at half past twelve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What   B   Want  C  When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do you want ___  do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 /     B  to    C  going  t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582160" y="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97800" y="17002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5005080" y="53006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sk: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谈论天气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以及制订计划。</a:t>
            </a: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ather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396720" y="19890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sten and ch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we going to d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da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are we going to d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文本框 19457"/>
          <p:cNvSpPr/>
          <p:nvPr/>
        </p:nvSpPr>
        <p:spPr>
          <a:xfrm>
            <a:off x="684360" y="40464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talk about a plan(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计划）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椭圆 19458"/>
          <p:cNvSpPr/>
          <p:nvPr/>
        </p:nvSpPr>
        <p:spPr>
          <a:xfrm>
            <a:off x="3348000" y="2329200"/>
            <a:ext cx="1655640" cy="735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直接连接符 19459"/>
          <p:cNvSpPr/>
          <p:nvPr/>
        </p:nvSpPr>
        <p:spPr>
          <a:xfrm flipV="1">
            <a:off x="4211640" y="1988640"/>
            <a:ext cx="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直接连接符 19460"/>
          <p:cNvSpPr/>
          <p:nvPr/>
        </p:nvSpPr>
        <p:spPr>
          <a:xfrm flipV="1">
            <a:off x="4932360" y="2205000"/>
            <a:ext cx="14436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直接连接符 19461"/>
          <p:cNvSpPr/>
          <p:nvPr/>
        </p:nvSpPr>
        <p:spPr>
          <a:xfrm flipV="1">
            <a:off x="5148360" y="2636640"/>
            <a:ext cx="2156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左大括号 19462"/>
          <p:cNvSpPr/>
          <p:nvPr/>
        </p:nvSpPr>
        <p:spPr>
          <a:xfrm rot="5400000">
            <a:off x="3997440" y="2421000"/>
            <a:ext cx="358560" cy="1800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文本框 19463"/>
          <p:cNvSpPr/>
          <p:nvPr/>
        </p:nvSpPr>
        <p:spPr>
          <a:xfrm>
            <a:off x="2700360" y="3429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going t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19464"/>
          <p:cNvSpPr/>
          <p:nvPr/>
        </p:nvSpPr>
        <p:spPr>
          <a:xfrm>
            <a:off x="4716360" y="3500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直接连接符 19465"/>
          <p:cNvSpPr/>
          <p:nvPr/>
        </p:nvSpPr>
        <p:spPr>
          <a:xfrm flipH="1">
            <a:off x="2556000" y="3789360"/>
            <a:ext cx="28728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直接连接符 19466"/>
          <p:cNvSpPr/>
          <p:nvPr/>
        </p:nvSpPr>
        <p:spPr>
          <a:xfrm>
            <a:off x="2916360" y="378936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直接连接符 19467"/>
          <p:cNvSpPr/>
          <p:nvPr/>
        </p:nvSpPr>
        <p:spPr>
          <a:xfrm>
            <a:off x="2987640" y="3789360"/>
            <a:ext cx="28908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文本框 19468"/>
          <p:cNvSpPr/>
          <p:nvPr/>
        </p:nvSpPr>
        <p:spPr>
          <a:xfrm>
            <a:off x="2268360" y="400536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s  am  a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椭圆 19469"/>
          <p:cNvSpPr/>
          <p:nvPr/>
        </p:nvSpPr>
        <p:spPr>
          <a:xfrm>
            <a:off x="3564000" y="1464480"/>
            <a:ext cx="1369800" cy="5637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椭圆 19470"/>
          <p:cNvSpPr/>
          <p:nvPr/>
        </p:nvSpPr>
        <p:spPr>
          <a:xfrm>
            <a:off x="4932360" y="1680480"/>
            <a:ext cx="1370160" cy="5637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椭圆 19471"/>
          <p:cNvSpPr/>
          <p:nvPr/>
        </p:nvSpPr>
        <p:spPr>
          <a:xfrm>
            <a:off x="5435640" y="2401200"/>
            <a:ext cx="1657440" cy="5637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直接连接符 19472"/>
          <p:cNvSpPr/>
          <p:nvPr/>
        </p:nvSpPr>
        <p:spPr>
          <a:xfrm flipV="1">
            <a:off x="6372360" y="1699920"/>
            <a:ext cx="21564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文本框 19473"/>
          <p:cNvSpPr/>
          <p:nvPr/>
        </p:nvSpPr>
        <p:spPr>
          <a:xfrm>
            <a:off x="6588000" y="1413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ar/…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直接连接符 19474"/>
          <p:cNvSpPr/>
          <p:nvPr/>
        </p:nvSpPr>
        <p:spPr>
          <a:xfrm flipH="1" flipV="1">
            <a:off x="2916000" y="2565000"/>
            <a:ext cx="360360" cy="144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椭圆 19475"/>
          <p:cNvSpPr/>
          <p:nvPr/>
        </p:nvSpPr>
        <p:spPr>
          <a:xfrm>
            <a:off x="1476360" y="2185200"/>
            <a:ext cx="1370160" cy="5637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直接连接符 19476"/>
          <p:cNvSpPr/>
          <p:nvPr/>
        </p:nvSpPr>
        <p:spPr>
          <a:xfrm flipH="1" flipV="1">
            <a:off x="3347640" y="2133720"/>
            <a:ext cx="14292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椭圆 19477"/>
          <p:cNvSpPr/>
          <p:nvPr/>
        </p:nvSpPr>
        <p:spPr>
          <a:xfrm>
            <a:off x="2124000" y="1608840"/>
            <a:ext cx="1370160" cy="5637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文本框 19479"/>
          <p:cNvSpPr/>
          <p:nvPr/>
        </p:nvSpPr>
        <p:spPr>
          <a:xfrm>
            <a:off x="279360" y="4854600"/>
            <a:ext cx="871524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morrow we’re going to go to______. We’re going to at_____. We’re going to get there by _____. We’re going to ____________. It will____________. We’re going to have a good time at the weeken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文本框 1"/>
          <p:cNvSpPr/>
          <p:nvPr/>
        </p:nvSpPr>
        <p:spPr>
          <a:xfrm>
            <a:off x="3695760" y="4402080"/>
            <a:ext cx="26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   Pl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3" descr="b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4"/>
          <p:cNvSpPr txBox="1"/>
          <p:nvPr/>
        </p:nvSpPr>
        <p:spPr>
          <a:xfrm>
            <a:off x="1403280" y="260280"/>
            <a:ext cx="568800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ic Sans MS"/>
              </a:rPr>
              <a:t>HOMEWORK</a:t>
            </a:r>
            <a:endParaRPr b="1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pic>
        <p:nvPicPr>
          <p:cNvPr id="189" name="片尾音乐.mid" descr=""/>
          <p:cNvPicPr/>
          <p:nvPr/>
        </p:nvPicPr>
        <p:blipFill>
          <a:blip r:embed="rId2"/>
          <a:stretch/>
        </p:blipFill>
        <p:spPr>
          <a:xfrm>
            <a:off x="7738920" y="5583240"/>
            <a:ext cx="287640" cy="277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花"/>
          <p:cNvPicPr/>
          <p:nvPr/>
        </p:nvPicPr>
        <p:blipFill>
          <a:blip r:embed="rId3"/>
          <a:stretch/>
        </p:blipFill>
        <p:spPr>
          <a:xfrm>
            <a:off x="755640" y="5300640"/>
            <a:ext cx="2808360" cy="101592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1187280" y="2276640"/>
            <a:ext cx="7072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抄写新单词每个十遍，并进行默写，家长签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完成小练笔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Listen   to  CCTV weather report . And make  a weather forecast  newspap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-141840" y="1219320"/>
            <a:ext cx="8980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Weather symbols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zh-CN" sz="8000" spc="-1" strike="noStrike">
                <a:solidFill>
                  <a:srgbClr val="000000"/>
                </a:solidFill>
                <a:latin typeface="Comic Sans MS"/>
              </a:rPr>
              <a:t>天气符号</a:t>
            </a: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rw_019"/>
          <p:cNvPicPr/>
          <p:nvPr/>
        </p:nvPicPr>
        <p:blipFill>
          <a:blip r:embed="rId1"/>
          <a:stretch/>
        </p:blipFill>
        <p:spPr>
          <a:xfrm>
            <a:off x="2627280" y="3573360"/>
            <a:ext cx="273672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24186" t="31348" r="68752" b="60003"/>
          <a:stretch/>
        </p:blipFill>
        <p:spPr>
          <a:xfrm>
            <a:off x="1295280" y="0"/>
            <a:ext cx="5715000" cy="43736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371600" y="4387680"/>
            <a:ext cx="6629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rain</a:t>
            </a:r>
            <a:r>
              <a:rPr b="1" lang="en-US" sz="156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rcRect l="18128" t="45255" r="76877" b="46511"/>
          <a:stretch/>
        </p:blipFill>
        <p:spPr>
          <a:xfrm>
            <a:off x="1981080" y="304920"/>
            <a:ext cx="4808520" cy="49528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371600" y="4387680"/>
            <a:ext cx="8001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snow</a:t>
            </a:r>
            <a:r>
              <a:rPr b="1" lang="en-US" sz="156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0342" t="62365" r="74320" b="29000"/>
          <a:stretch/>
        </p:blipFill>
        <p:spPr>
          <a:xfrm>
            <a:off x="1692360" y="0"/>
            <a:ext cx="5503680" cy="5562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371600" y="4387680"/>
            <a:ext cx="6629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wind</a:t>
            </a:r>
            <a:r>
              <a:rPr b="1" lang="en-US" sz="156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44103" t="44003" r="51250" b="48004"/>
          <a:stretch/>
        </p:blipFill>
        <p:spPr>
          <a:xfrm>
            <a:off x="1752480" y="-152280"/>
            <a:ext cx="502920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371600" y="4387680"/>
            <a:ext cx="66294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sunn</a:t>
            </a:r>
            <a:r>
              <a:rPr b="1" lang="en-US" sz="156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a01"/>
          <p:cNvPicPr/>
          <p:nvPr/>
        </p:nvPicPr>
        <p:blipFill>
          <a:blip r:embed="rId1"/>
          <a:stretch/>
        </p:blipFill>
        <p:spPr>
          <a:xfrm>
            <a:off x="2340000" y="476280"/>
            <a:ext cx="4608360" cy="37447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763640" y="4005360"/>
            <a:ext cx="66294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000000"/>
                </a:solidFill>
                <a:latin typeface="Comic Sans MS"/>
              </a:rPr>
              <a:t>cloud</a:t>
            </a:r>
            <a:r>
              <a:rPr b="1" lang="en-US" sz="156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1" lang="en-US" sz="1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1T13:07:44Z</dcterms:created>
  <dc:creator>11</dc:creator>
  <dc:description/>
  <cp:keywords/>
  <dc:language>en-US</dc:language>
  <cp:lastModifiedBy>hppp</cp:lastModifiedBy>
  <dcterms:modified xsi:type="dcterms:W3CDTF">2017-03-20T08:15:28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07</vt:lpwstr>
  </property>
</Properties>
</file>