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laser.wav" ContentType="audio/x-wav"/>
  <Override PartName="/ppt/media/image23.jpeg" ContentType="image/jpeg"/>
  <Override PartName="/ppt/media/image18.jpeg" ContentType="image/jpeg"/>
  <Override PartName="/ppt/media/image21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2.png" ContentType="image/png"/>
  <Override PartName="/ppt/media/chimes.wav" ContentType="audio/x-wav"/>
  <Override PartName="/ppt/media/type.wav" ContentType="audio/x-wav"/>
  <Override PartName="/ppt/media/image5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309-529B-4639-BE88-E4ED5F80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24A-B6C4-4CB9-8E1C-9091C182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6CC-962B-4910-B4B9-C8724CBA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9AE-9E98-49DF-B402-E7AAFDB3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523-808D-4265-BB63-A01E2A24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627-6FB7-4F42-8578-ADDE0500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FA8-2730-407C-B51C-9094CE2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82A-BDE6-4D7F-88DB-748F92F6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DB0-F7C9-4AA0-90BB-C71308CA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B58-7E36-4563-92DD-A0BE1A9A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75A-37E8-436E-9F57-FBAC608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BDF-6083-464E-88CF-D75EE08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EE99-8039-4EFD-A855-F494D0FA09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55240" y="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师大版二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11280" y="1268280"/>
            <a:ext cx="439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识角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365720"/>
            <a:ext cx="42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海县四块石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宋雅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69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8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590920" y="990360"/>
            <a:ext cx="3962160" cy="3353040"/>
            <a:chOff x="2590920" y="990360"/>
            <a:chExt cx="3962160" cy="3353040"/>
          </a:xfrm>
        </p:grpSpPr>
        <p:sp>
          <p:nvSpPr>
            <p:cNvPr id="127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90920" y="990360"/>
            <a:ext cx="3886200" cy="3353040"/>
            <a:chOff x="2590920" y="990360"/>
            <a:chExt cx="3886200" cy="3353040"/>
          </a:xfrm>
        </p:grpSpPr>
        <p:sp>
          <p:nvSpPr>
            <p:cNvPr id="132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90920" y="990360"/>
              <a:ext cx="1524240" cy="33526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590920" y="990360"/>
            <a:ext cx="3886200" cy="3353040"/>
            <a:chOff x="2590920" y="990360"/>
            <a:chExt cx="3886200" cy="3353040"/>
          </a:xfrm>
        </p:grpSpPr>
        <p:sp>
          <p:nvSpPr>
            <p:cNvPr id="135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590920" y="990360"/>
              <a:ext cx="1524240" cy="33526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990360"/>
            <a:ext cx="3886200" cy="3353040"/>
            <a:chOff x="2590920" y="990360"/>
            <a:chExt cx="3886200" cy="3353040"/>
          </a:xfrm>
        </p:grpSpPr>
        <p:sp>
          <p:nvSpPr>
            <p:cNvPr id="138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590920" y="990360"/>
              <a:ext cx="1524240" cy="33526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0920" y="990360"/>
            <a:ext cx="3886200" cy="3352680"/>
            <a:chOff x="2590920" y="990360"/>
            <a:chExt cx="3886200" cy="3352680"/>
          </a:xfrm>
        </p:grpSpPr>
        <p:sp>
          <p:nvSpPr>
            <p:cNvPr id="141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90920" y="990360"/>
            <a:ext cx="3886200" cy="3352680"/>
            <a:chOff x="2590920" y="990360"/>
            <a:chExt cx="3886200" cy="3352680"/>
          </a:xfrm>
        </p:grpSpPr>
        <p:sp>
          <p:nvSpPr>
            <p:cNvPr id="144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90920" y="990360"/>
            <a:ext cx="3886200" cy="3352680"/>
            <a:chOff x="2590920" y="990360"/>
            <a:chExt cx="3886200" cy="3352680"/>
          </a:xfrm>
        </p:grpSpPr>
        <p:sp>
          <p:nvSpPr>
            <p:cNvPr id="147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590920" y="990360"/>
            <a:ext cx="3047760" cy="3353040"/>
            <a:chOff x="2590920" y="990360"/>
            <a:chExt cx="3047760" cy="3353040"/>
          </a:xfrm>
        </p:grpSpPr>
        <p:sp>
          <p:nvSpPr>
            <p:cNvPr id="150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590920" y="990360"/>
            <a:ext cx="3047760" cy="3353040"/>
            <a:chOff x="2590920" y="990360"/>
            <a:chExt cx="3047760" cy="3353040"/>
          </a:xfrm>
        </p:grpSpPr>
        <p:sp>
          <p:nvSpPr>
            <p:cNvPr id="153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590920" y="1676520"/>
            <a:ext cx="3962160" cy="2666880"/>
            <a:chOff x="2590920" y="1676520"/>
            <a:chExt cx="3962160" cy="2666880"/>
          </a:xfrm>
        </p:grpSpPr>
        <p:sp>
          <p:nvSpPr>
            <p:cNvPr id="156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90920" y="1676520"/>
            <a:ext cx="3962160" cy="2666880"/>
            <a:chOff x="2590920" y="1676520"/>
            <a:chExt cx="3962160" cy="2666880"/>
          </a:xfrm>
        </p:grpSpPr>
        <p:sp>
          <p:nvSpPr>
            <p:cNvPr id="159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590920" y="1676520"/>
            <a:ext cx="3962160" cy="2666880"/>
            <a:chOff x="2590920" y="1676520"/>
            <a:chExt cx="3962160" cy="2666880"/>
          </a:xfrm>
        </p:grpSpPr>
        <p:sp>
          <p:nvSpPr>
            <p:cNvPr id="162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590920" y="1676520"/>
            <a:ext cx="3886200" cy="2666880"/>
            <a:chOff x="2590920" y="1676520"/>
            <a:chExt cx="3886200" cy="2666880"/>
          </a:xfrm>
        </p:grpSpPr>
        <p:sp>
          <p:nvSpPr>
            <p:cNvPr id="165" name=""/>
            <p:cNvSpPr/>
            <p:nvPr/>
          </p:nvSpPr>
          <p:spPr>
            <a:xfrm flipV="1">
              <a:off x="2590920" y="1676520"/>
              <a:ext cx="3048120" cy="26668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666880" y="3123720"/>
            <a:ext cx="3886200" cy="1219680"/>
            <a:chOff x="2666880" y="3123720"/>
            <a:chExt cx="3886200" cy="1219680"/>
          </a:xfrm>
        </p:grpSpPr>
        <p:sp>
          <p:nvSpPr>
            <p:cNvPr id="168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6880" y="4343400"/>
              <a:ext cx="3886200" cy="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362680" y="28954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361944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56" y="108"/>
                  <a:pt x="144" y="16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3809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56" y="108"/>
                  <a:pt x="144" y="16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40384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56" y="108"/>
                  <a:pt x="144" y="168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676520"/>
            <a:ext cx="3962160" cy="36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9227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922723"/>
              </a:path>
            </a:pathLst>
          </a:cu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7080" y="3048120"/>
            <a:ext cx="182808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827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82759"/>
              </a:path>
            </a:pathLst>
          </a:custGeom>
          <a:noFill/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6400" y="358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72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9040" y="243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432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6440" y="175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90920" y="3123720"/>
            <a:ext cx="3886200" cy="1219680"/>
            <a:chOff x="2590920" y="3123720"/>
            <a:chExt cx="3886200" cy="1219680"/>
          </a:xfrm>
        </p:grpSpPr>
        <p:sp>
          <p:nvSpPr>
            <p:cNvPr id="182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90920" y="3123720"/>
            <a:ext cx="3886200" cy="1219680"/>
            <a:chOff x="2590920" y="3123720"/>
            <a:chExt cx="3886200" cy="1219680"/>
          </a:xfrm>
        </p:grpSpPr>
        <p:sp>
          <p:nvSpPr>
            <p:cNvPr id="185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90920" y="1676520"/>
            <a:ext cx="3886200" cy="2666880"/>
            <a:chOff x="2590920" y="1676520"/>
            <a:chExt cx="3886200" cy="2666880"/>
          </a:xfrm>
        </p:grpSpPr>
        <p:sp>
          <p:nvSpPr>
            <p:cNvPr id="188" name=""/>
            <p:cNvSpPr/>
            <p:nvPr/>
          </p:nvSpPr>
          <p:spPr>
            <a:xfrm flipV="1">
              <a:off x="2590920" y="1676520"/>
              <a:ext cx="3048120" cy="26668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1676520"/>
            <a:ext cx="3886200" cy="2666880"/>
            <a:chOff x="2590920" y="1676520"/>
            <a:chExt cx="3886200" cy="2666880"/>
          </a:xfrm>
        </p:grpSpPr>
        <p:sp>
          <p:nvSpPr>
            <p:cNvPr id="191" name=""/>
            <p:cNvSpPr/>
            <p:nvPr/>
          </p:nvSpPr>
          <p:spPr>
            <a:xfrm flipV="1">
              <a:off x="2590920" y="1676520"/>
              <a:ext cx="3048120" cy="26668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90920" y="990360"/>
            <a:ext cx="3047760" cy="3353040"/>
            <a:chOff x="2590920" y="990360"/>
            <a:chExt cx="3047760" cy="3353040"/>
          </a:xfrm>
        </p:grpSpPr>
        <p:sp>
          <p:nvSpPr>
            <p:cNvPr id="194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2516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8760" y="480060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里一共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944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516720" y="2925720"/>
            <a:ext cx="2160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2854440"/>
            <a:ext cx="2160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2782800"/>
            <a:ext cx="216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，剪一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52480" y="1125000"/>
            <a:ext cx="73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长方形剪去一个角，还有几个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2781360"/>
            <a:ext cx="1584360" cy="1150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708280"/>
            <a:ext cx="2448000" cy="1584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2637000"/>
            <a:ext cx="1655640" cy="1800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9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0" y="1917720"/>
            <a:ext cx="10796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13240" y="5218200"/>
            <a:ext cx="1238400" cy="155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92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43640" y="512136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380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5384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H="1">
            <a:off x="6300720" y="1989000"/>
            <a:ext cx="503280" cy="151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157720" y="3490920"/>
            <a:ext cx="115272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6163200" y="3293640"/>
            <a:ext cx="289440" cy="42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42" y="675"/>
                </a:moveTo>
                <a:arcTo wR="10800" hR="10800" stAng="-6621877" swAng="7039688"/>
                <a:lnTo>
                  <a:pt x="10800" y="10800"/>
                </a:lnTo>
                <a:close/>
              </a:path>
              <a:path fill="none" w="21600" h="21600">
                <a:moveTo>
                  <a:pt x="7042" y="675"/>
                </a:moveTo>
                <a:arcTo wR="10800" hR="10800" stAng="-6621877" swAng="7039688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45280" y="34164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32720" cy="5472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00720" y="3068640"/>
            <a:ext cx="1747800" cy="43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47760" y="3059280"/>
            <a:ext cx="1461960" cy="36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8133000">
            <a:off x="4338720" y="2780280"/>
            <a:ext cx="2836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22" y="682"/>
                </a:moveTo>
                <a:arcTo wR="10800" hR="10800" stAng="-6628669" swAng="6628669"/>
                <a:lnTo>
                  <a:pt x="10800" y="10800"/>
                </a:lnTo>
                <a:close/>
              </a:path>
              <a:path fill="none" w="21600" h="21600">
                <a:moveTo>
                  <a:pt x="7022" y="682"/>
                </a:moveTo>
                <a:arcTo wR="10800" hR="10800" stAng="-6628669" swAng="6628669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67240" y="300024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535280" cy="612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H="1">
            <a:off x="2700000" y="1700280"/>
            <a:ext cx="569880" cy="345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76720" y="765000"/>
            <a:ext cx="863640" cy="93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916720" y="1125000"/>
            <a:ext cx="57384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73680" y="57150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48360" y="0"/>
            <a:ext cx="17384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中央电视台新建大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553440" cy="4551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H="1">
            <a:off x="1295280" y="1341360"/>
            <a:ext cx="2278080" cy="178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1341360"/>
            <a:ext cx="398520" cy="193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54280" y="1332000"/>
            <a:ext cx="1398600" cy="1334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7660800">
            <a:off x="3270240" y="1215360"/>
            <a:ext cx="2851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215200">
            <a:off x="3487680" y="1347120"/>
            <a:ext cx="2851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3050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558972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埃及金字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611280" y="73080"/>
            <a:ext cx="8064000" cy="6784560"/>
            <a:chOff x="611280" y="73080"/>
            <a:chExt cx="8064000" cy="67845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11280" y="73080"/>
              <a:ext cx="8064000" cy="56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92320" y="5758200"/>
              <a:ext cx="5844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3399"/>
                  </a:solidFill>
                  <a:latin typeface="Arial"/>
                  <a:ea typeface="隶书"/>
                </a:rPr>
                <a:t>悉尼歌剧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877080" y="1484280"/>
            <a:ext cx="358920" cy="865080"/>
            <a:chOff x="6877080" y="1484280"/>
            <a:chExt cx="358920" cy="865080"/>
          </a:xfrm>
        </p:grpSpPr>
        <p:sp>
          <p:nvSpPr>
            <p:cNvPr id="242" name=""/>
            <p:cNvSpPr/>
            <p:nvPr/>
          </p:nvSpPr>
          <p:spPr>
            <a:xfrm>
              <a:off x="6877080" y="1484280"/>
              <a:ext cx="0" cy="86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7080" y="1484280"/>
              <a:ext cx="35892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788000" y="2205000"/>
            <a:ext cx="504360" cy="1152720"/>
            <a:chOff x="4788000" y="2205000"/>
            <a:chExt cx="504360" cy="1152720"/>
          </a:xfrm>
        </p:grpSpPr>
        <p:sp>
          <p:nvSpPr>
            <p:cNvPr id="245" name=""/>
            <p:cNvSpPr/>
            <p:nvPr/>
          </p:nvSpPr>
          <p:spPr>
            <a:xfrm flipH="1">
              <a:off x="4788000" y="2276640"/>
              <a:ext cx="25272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40720" y="2205000"/>
              <a:ext cx="25164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45440" cy="5400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29200" y="1143000"/>
            <a:ext cx="263520" cy="293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92720" y="3962160"/>
            <a:ext cx="2556000" cy="1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133360" y="3962160"/>
            <a:ext cx="3159000" cy="11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5800" y="3860640"/>
            <a:ext cx="573840" cy="28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124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124197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5004000" y="3789000"/>
            <a:ext cx="430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55" y="827"/>
                </a:moveTo>
                <a:arcTo wR="10800" hR="10800" stAng="-6754048" swAng="6754048"/>
                <a:lnTo>
                  <a:pt x="10800" y="10800"/>
                </a:lnTo>
                <a:close/>
              </a:path>
              <a:path fill="none" w="21600" h="21600">
                <a:moveTo>
                  <a:pt x="6655" y="827"/>
                </a:moveTo>
                <a:arcTo wR="10800" hR="10800" stAng="-6754048" swAng="6754048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8720" y="40194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1557360"/>
            <a:ext cx="194472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557360"/>
            <a:ext cx="540072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539640" y="1557000"/>
            <a:ext cx="540072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357720"/>
            <a:ext cx="53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1557360"/>
            <a:ext cx="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539640" y="1557000"/>
            <a:ext cx="540072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357720"/>
            <a:ext cx="53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557360"/>
            <a:ext cx="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2" descr="1.png"/>
          <p:cNvPicPr/>
          <p:nvPr/>
        </p:nvPicPr>
        <p:blipFill>
          <a:blip r:embed="rId1"/>
          <a:stretch/>
        </p:blipFill>
        <p:spPr>
          <a:xfrm>
            <a:off x="468360" y="19890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3" descr="2.png"/>
          <p:cNvPicPr/>
          <p:nvPr/>
        </p:nvPicPr>
        <p:blipFill>
          <a:blip r:embed="rId2"/>
          <a:stretch/>
        </p:blipFill>
        <p:spPr>
          <a:xfrm>
            <a:off x="3056040" y="1731960"/>
            <a:ext cx="2084400" cy="2097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5" descr="3.png"/>
          <p:cNvPicPr/>
          <p:nvPr/>
        </p:nvPicPr>
        <p:blipFill>
          <a:blip r:embed="rId3"/>
          <a:stretch/>
        </p:blipFill>
        <p:spPr>
          <a:xfrm>
            <a:off x="5396040" y="2155680"/>
            <a:ext cx="3543120" cy="1673280"/>
          </a:xfrm>
          <a:prstGeom prst="rect">
            <a:avLst/>
          </a:prstGeom>
          <a:ln w="0">
            <a:noFill/>
          </a:ln>
        </p:spPr>
      </p:pic>
      <p:sp>
        <p:nvSpPr>
          <p:cNvPr id="60" name="直接连接符 27"/>
          <p:cNvSpPr/>
          <p:nvPr/>
        </p:nvSpPr>
        <p:spPr>
          <a:xfrm flipH="1">
            <a:off x="1908000" y="2492280"/>
            <a:ext cx="649440" cy="3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3"/>
          <p:cNvSpPr/>
          <p:nvPr/>
        </p:nvSpPr>
        <p:spPr>
          <a:xfrm>
            <a:off x="1908000" y="2852640"/>
            <a:ext cx="684360" cy="357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5"/>
          <p:cNvSpPr/>
          <p:nvPr/>
        </p:nvSpPr>
        <p:spPr>
          <a:xfrm flipH="1">
            <a:off x="4078440" y="2155680"/>
            <a:ext cx="144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7"/>
          <p:cNvSpPr/>
          <p:nvPr/>
        </p:nvSpPr>
        <p:spPr>
          <a:xfrm>
            <a:off x="4078440" y="2790720"/>
            <a:ext cx="360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9"/>
          <p:cNvSpPr/>
          <p:nvPr/>
        </p:nvSpPr>
        <p:spPr>
          <a:xfrm>
            <a:off x="6632640" y="3241800"/>
            <a:ext cx="6127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 flipV="1">
            <a:off x="7232040" y="3200400"/>
            <a:ext cx="610920" cy="5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43"/>
          <p:cNvSpPr/>
          <p:nvPr/>
        </p:nvSpPr>
        <p:spPr>
          <a:xfrm flipH="1" flipV="1">
            <a:off x="5492880" y="2336400"/>
            <a:ext cx="10080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45"/>
          <p:cNvSpPr/>
          <p:nvPr/>
        </p:nvSpPr>
        <p:spPr>
          <a:xfrm>
            <a:off x="5478480" y="2336760"/>
            <a:ext cx="650880" cy="453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46"/>
          <p:cNvSpPr/>
          <p:nvPr/>
        </p:nvSpPr>
        <p:spPr>
          <a:xfrm flipH="1" flipV="1">
            <a:off x="7872480" y="2371320"/>
            <a:ext cx="10080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47"/>
          <p:cNvSpPr/>
          <p:nvPr/>
        </p:nvSpPr>
        <p:spPr>
          <a:xfrm flipH="1">
            <a:off x="8295840" y="2378160"/>
            <a:ext cx="576360" cy="453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1480" y="609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1628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7650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29923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12000" y="1773360"/>
            <a:ext cx="0" cy="121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55640" y="1844640"/>
            <a:ext cx="914400" cy="1143000"/>
            <a:chOff x="755640" y="1844640"/>
            <a:chExt cx="914400" cy="1143000"/>
          </a:xfrm>
        </p:grpSpPr>
        <p:sp>
          <p:nvSpPr>
            <p:cNvPr id="76" name=""/>
            <p:cNvSpPr/>
            <p:nvPr/>
          </p:nvSpPr>
          <p:spPr>
            <a:xfrm>
              <a:off x="1670040" y="1844640"/>
              <a:ext cx="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2073240"/>
              <a:ext cx="91440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0920" y="4365720"/>
            <a:ext cx="2133720" cy="615960"/>
            <a:chOff x="610920" y="4365720"/>
            <a:chExt cx="2133720" cy="615960"/>
          </a:xfrm>
        </p:grpSpPr>
        <p:sp>
          <p:nvSpPr>
            <p:cNvPr id="79" name=""/>
            <p:cNvSpPr/>
            <p:nvPr/>
          </p:nvSpPr>
          <p:spPr>
            <a:xfrm flipH="1">
              <a:off x="610920" y="4365720"/>
              <a:ext cx="1066680" cy="61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7960" y="4365720"/>
              <a:ext cx="1066680" cy="61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68360" y="3357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          （         ）              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516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         （         ）            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76720" y="4149720"/>
            <a:ext cx="1977840" cy="2145240"/>
            <a:chOff x="3276720" y="4149720"/>
            <a:chExt cx="1977840" cy="2145240"/>
          </a:xfrm>
        </p:grpSpPr>
        <p:grpSp>
          <p:nvGrpSpPr>
            <p:cNvPr id="84" name=""/>
            <p:cNvGrpSpPr/>
            <p:nvPr/>
          </p:nvGrpSpPr>
          <p:grpSpPr>
            <a:xfrm>
              <a:off x="3591000" y="4149720"/>
              <a:ext cx="1230120" cy="1105920"/>
              <a:chOff x="3591000" y="4149720"/>
              <a:chExt cx="1230120" cy="1105920"/>
            </a:xfrm>
          </p:grpSpPr>
          <p:sp>
            <p:nvSpPr>
              <p:cNvPr id="85" name=""/>
              <p:cNvSpPr/>
              <p:nvPr/>
            </p:nvSpPr>
            <p:spPr>
              <a:xfrm>
                <a:off x="3690720" y="4149720"/>
                <a:ext cx="1130400" cy="71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591000" y="5255640"/>
                <a:ext cx="1064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3276720" y="5652360"/>
              <a:ext cx="197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203640" y="1989000"/>
            <a:ext cx="1873080" cy="1901160"/>
            <a:chOff x="3203640" y="1989000"/>
            <a:chExt cx="1873080" cy="1901160"/>
          </a:xfrm>
        </p:grpSpPr>
        <p:grpSp>
          <p:nvGrpSpPr>
            <p:cNvPr id="89" name=""/>
            <p:cNvGrpSpPr/>
            <p:nvPr/>
          </p:nvGrpSpPr>
          <p:grpSpPr>
            <a:xfrm>
              <a:off x="3203640" y="1989000"/>
              <a:ext cx="1873080" cy="917640"/>
              <a:chOff x="3203640" y="1989000"/>
              <a:chExt cx="1873080" cy="917640"/>
            </a:xfrm>
          </p:grpSpPr>
          <p:sp>
            <p:nvSpPr>
              <p:cNvPr id="90" name=""/>
              <p:cNvSpPr/>
              <p:nvPr/>
            </p:nvSpPr>
            <p:spPr>
              <a:xfrm>
                <a:off x="3203640" y="2906640"/>
                <a:ext cx="1873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18040" y="1989000"/>
                <a:ext cx="1741320" cy="902160"/>
              </a:xfrm>
              <a:custGeom>
                <a:avLst/>
                <a:gdLst/>
                <a:ahLst/>
                <a:rect l="l" t="t" r="r" b="b"/>
                <a:pathLst>
                  <a:path w="1428" h="704">
                    <a:moveTo>
                      <a:pt x="0" y="704"/>
                    </a:moveTo>
                    <a:cubicBezTo>
                      <a:pt x="7" y="601"/>
                      <a:pt x="14" y="498"/>
                      <a:pt x="60" y="416"/>
                    </a:cubicBezTo>
                    <a:cubicBezTo>
                      <a:pt x="106" y="334"/>
                      <a:pt x="162" y="278"/>
                      <a:pt x="276" y="212"/>
                    </a:cubicBezTo>
                    <a:cubicBezTo>
                      <a:pt x="390" y="146"/>
                      <a:pt x="576" y="40"/>
                      <a:pt x="744" y="20"/>
                    </a:cubicBezTo>
                    <a:cubicBezTo>
                      <a:pt x="912" y="0"/>
                      <a:pt x="1170" y="66"/>
                      <a:pt x="1284" y="92"/>
                    </a:cubicBezTo>
                    <a:cubicBezTo>
                      <a:pt x="1398" y="118"/>
                      <a:pt x="1413" y="147"/>
                      <a:pt x="1428" y="17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308400" y="3247560"/>
              <a:ext cx="176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084720" y="4005360"/>
            <a:ext cx="2062080" cy="1984320"/>
            <a:chOff x="6084720" y="4005360"/>
            <a:chExt cx="2062080" cy="1984320"/>
          </a:xfrm>
        </p:grpSpPr>
        <p:sp>
          <p:nvSpPr>
            <p:cNvPr id="94" name=""/>
            <p:cNvSpPr/>
            <p:nvPr/>
          </p:nvSpPr>
          <p:spPr>
            <a:xfrm>
              <a:off x="6084720" y="4005360"/>
              <a:ext cx="1939320" cy="1010160"/>
            </a:xfrm>
            <a:custGeom>
              <a:avLst/>
              <a:gdLst/>
              <a:ahLst/>
              <a:rect l="l" t="t" r="r" b="b"/>
              <a:pathLst>
                <a:path w="1264" h="640">
                  <a:moveTo>
                    <a:pt x="432" y="0"/>
                  </a:moveTo>
                  <a:cubicBezTo>
                    <a:pt x="608" y="4"/>
                    <a:pt x="784" y="8"/>
                    <a:pt x="912" y="48"/>
                  </a:cubicBezTo>
                  <a:cubicBezTo>
                    <a:pt x="1040" y="88"/>
                    <a:pt x="1152" y="160"/>
                    <a:pt x="1200" y="240"/>
                  </a:cubicBezTo>
                  <a:cubicBezTo>
                    <a:pt x="1248" y="320"/>
                    <a:pt x="1264" y="464"/>
                    <a:pt x="1200" y="528"/>
                  </a:cubicBezTo>
                  <a:cubicBezTo>
                    <a:pt x="1136" y="592"/>
                    <a:pt x="952" y="608"/>
                    <a:pt x="816" y="624"/>
                  </a:cubicBezTo>
                  <a:cubicBezTo>
                    <a:pt x="680" y="640"/>
                    <a:pt x="520" y="624"/>
                    <a:pt x="384" y="624"/>
                  </a:cubicBezTo>
                  <a:cubicBezTo>
                    <a:pt x="248" y="624"/>
                    <a:pt x="124" y="624"/>
                    <a:pt x="0" y="62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5880" y="534708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(     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55640" y="2852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9242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2924280"/>
            <a:ext cx="14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5048280"/>
            <a:ext cx="14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11956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5157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4920" y="-27000"/>
            <a:ext cx="9434160" cy="1913040"/>
            <a:chOff x="34920" y="-27000"/>
            <a:chExt cx="9434160" cy="1913040"/>
          </a:xfrm>
        </p:grpSpPr>
        <p:sp>
          <p:nvSpPr>
            <p:cNvPr id="103" name=""/>
            <p:cNvSpPr/>
            <p:nvPr/>
          </p:nvSpPr>
          <p:spPr>
            <a:xfrm>
              <a:off x="34920" y="285840"/>
              <a:ext cx="7691040" cy="642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下面图形哪些是角，哪些不是角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7403760" y="-27000"/>
              <a:ext cx="2065320" cy="191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692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812000" y="2852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2924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33" descr="15.png"/>
          <p:cNvPicPr/>
          <p:nvPr/>
        </p:nvPicPr>
        <p:blipFill>
          <a:blip r:embed="rId1"/>
          <a:stretch/>
        </p:blipFill>
        <p:spPr>
          <a:xfrm>
            <a:off x="6173640" y="2997360"/>
            <a:ext cx="2970360" cy="11268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5" descr="11.png"/>
          <p:cNvPicPr/>
          <p:nvPr/>
        </p:nvPicPr>
        <p:blipFill>
          <a:blip r:embed="rId2"/>
          <a:stretch/>
        </p:blipFill>
        <p:spPr>
          <a:xfrm>
            <a:off x="324000" y="549360"/>
            <a:ext cx="8208720" cy="6127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7" descr="13.png"/>
          <p:cNvPicPr/>
          <p:nvPr/>
        </p:nvPicPr>
        <p:blipFill>
          <a:blip r:embed="rId3"/>
          <a:stretch/>
        </p:blipFill>
        <p:spPr>
          <a:xfrm>
            <a:off x="1835280" y="2637000"/>
            <a:ext cx="1885680" cy="18414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9" descr="14.png"/>
          <p:cNvPicPr/>
          <p:nvPr/>
        </p:nvPicPr>
        <p:blipFill>
          <a:blip r:embed="rId4"/>
          <a:stretch/>
        </p:blipFill>
        <p:spPr>
          <a:xfrm>
            <a:off x="3995640" y="2852640"/>
            <a:ext cx="1751040" cy="1476360"/>
          </a:xfrm>
          <a:prstGeom prst="rect">
            <a:avLst/>
          </a:prstGeom>
          <a:ln w="0">
            <a:noFill/>
          </a:ln>
        </p:spPr>
      </p:pic>
      <p:sp>
        <p:nvSpPr>
          <p:cNvPr id="112" name="等腰三角形 40"/>
          <p:cNvSpPr/>
          <p:nvPr/>
        </p:nvSpPr>
        <p:spPr>
          <a:xfrm>
            <a:off x="466560" y="2857680"/>
            <a:ext cx="1248120" cy="14778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" y="609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19:54:16Z</dcterms:created>
  <dc:creator>未知用户</dc:creator>
  <dc:description/>
  <dc:language>en-US</dc:language>
  <cp:lastModifiedBy>ss</cp:lastModifiedBy>
  <dcterms:modified xsi:type="dcterms:W3CDTF">2016-05-16T02:41:03Z</dcterms:modified>
  <cp:revision>23</cp:revision>
  <dc:subject/>
  <dc:title>幻灯片 1</dc:title>
</cp:coreProperties>
</file>