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png" ContentType="image/png"/>
  <Override PartName="/ppt/media/image13.jpeg" ContentType="image/jpeg"/>
  <Override PartName="/ppt/media/image12.png" ContentType="image/png"/>
  <Override PartName="/ppt/media/image1.png" ContentType="image/png"/>
  <Override PartName="/ppt/media/%E6%AD%A3%E7%A1%AE.WAV" ContentType="audio/x-wav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1E7-D942-47E4-93A9-F140BFCA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282-283D-4292-ABF6-B243F4D6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CD9-DA1A-4765-97FC-C91DB564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07F-7337-4DB9-9A69-DA3108F3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E9C-9815-4512-8957-C64EC955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F1C-CA06-4B27-8AD2-385B887A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398-1FF1-4AAE-B49E-4F82B658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E75-FF4D-4F6A-85DD-BC9FBFF4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FBD-FA53-4DCA-B11E-E0971E6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16D-4AD8-4CFB-8CB5-F3371BE2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764-F7EE-4CF6-B624-38A054B8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0B5-E1F6-4A79-90FC-3D6EE139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CB49-4526-443A-8031-2D6785A57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&#27491;&#30830;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1.3lian.com/img2011/w1/104/25/d/130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&#27491;&#30830;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&#27491;&#30830;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637000"/>
            <a:ext cx="640872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采松果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0920" y="404640"/>
            <a:ext cx="513396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北师大版一年级数学下册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AD%A3%E7%A1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28600"/>
            <a:ext cx="17524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286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做一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400800" y="274320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114800" y="5029200"/>
            <a:ext cx="236232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133720" y="3276720"/>
            <a:ext cx="4343400" cy="885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71800" y="3429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3505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429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429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1905120" cy="2743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1268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恐龙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12682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恐龙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1989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恐龙比小恐龙长多少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6600"/>
            <a:ext cx="9240840" cy="6791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333600" y="2060640"/>
            <a:ext cx="3686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竞赛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565200"/>
            <a:ext cx="8748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十是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由（     ）个十和（   ）个一组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十是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十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一合起来是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十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十是（     ）个十，是（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5600" cy="4172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40360" y="3213000"/>
            <a:ext cx="1152720" cy="503280"/>
          </a:xfrm>
          <a:prstGeom prst="rect">
            <a:avLst/>
          </a:prstGeom>
          <a:solidFill>
            <a:srgbClr val="f9df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3213000"/>
            <a:ext cx="107928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213000"/>
            <a:ext cx="136872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292640"/>
            <a:ext cx="8209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共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采了多少个松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157720"/>
            <a:ext cx="842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松鼠妈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松鼠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采了多少个松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AD%A3%E7%A1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5600" cy="4172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40360" y="3213000"/>
            <a:ext cx="1152720" cy="503280"/>
          </a:xfrm>
          <a:prstGeom prst="rect">
            <a:avLst/>
          </a:prstGeom>
          <a:solidFill>
            <a:srgbClr val="f9df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3213000"/>
            <a:ext cx="107928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3213000"/>
            <a:ext cx="136872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292640"/>
            <a:ext cx="8209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共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采了多少个松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5157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5 + 4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8920" y="5157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9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189000"/>
            <a:ext cx="82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共采了多少个松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3080" y="184464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5 + 4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184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9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3357720"/>
            <a:ext cx="5257800" cy="2232000"/>
          </a:xfrm>
          <a:prstGeom prst="cloudCallout">
            <a:avLst>
              <a:gd name="adj1" fmla="val 61203"/>
              <a:gd name="adj2" fmla="val 5177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37530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先算 </a:t>
            </a:r>
            <a:r>
              <a:rPr b="0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5 + 4 =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438300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再算 </a:t>
            </a:r>
            <a:r>
              <a:rPr b="0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20 + 9 = 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96360" y="5157720"/>
            <a:ext cx="1325520" cy="1486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2626920" y="2565360"/>
            <a:ext cx="289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2565360"/>
            <a:ext cx="2890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78136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20 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AD%A3%E7%A1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42920" y="1052640"/>
            <a:ext cx="65534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62+3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51+7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5600" cy="4172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0360" y="3213000"/>
            <a:ext cx="1152720" cy="503280"/>
          </a:xfrm>
          <a:prstGeom prst="rect">
            <a:avLst/>
          </a:prstGeom>
          <a:solidFill>
            <a:srgbClr val="f9dfd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3213000"/>
            <a:ext cx="107928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213000"/>
            <a:ext cx="136872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437000"/>
            <a:ext cx="8424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松鼠妈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小松鼠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采了多少个松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92360" y="5446800"/>
            <a:ext cx="5638680" cy="1295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33560" y="569124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32120" y="561816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22840" y="561816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78600" y="5691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68-3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46-5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62320" y="4343400"/>
            <a:ext cx="44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还剩多少个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505320"/>
            <a:ext cx="3124080" cy="685800"/>
          </a:xfrm>
          <a:prstGeom prst="cloudCallout">
            <a:avLst>
              <a:gd name="adj1" fmla="val -60824"/>
              <a:gd name="adj2" fmla="val 54398"/>
            </a:avLst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我吃了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304920"/>
            <a:ext cx="2743200" cy="598320"/>
          </a:xfrm>
          <a:prstGeom prst="cloudCallout">
            <a:avLst>
              <a:gd name="adj1" fmla="val 17592"/>
              <a:gd name="adj2" fmla="val 38861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原来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11280" y="907920"/>
            <a:ext cx="4114800" cy="2438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79640" y="5300640"/>
            <a:ext cx="472428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564000" y="5516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5516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8000" y="5516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87640" y="5516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22:05:21Z</dcterms:created>
  <dc:creator>未知用户</dc:creator>
  <dc:description/>
  <dc:language>en-US</dc:language>
  <cp:lastModifiedBy>admin</cp:lastModifiedBy>
  <dcterms:modified xsi:type="dcterms:W3CDTF">2016-04-20T14:44:18Z</dcterms:modified>
  <cp:revision>10</cp:revision>
  <dc:subject/>
  <dc:title>幻灯片 1</dc:title>
</cp:coreProperties>
</file>