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1.jpeg" ContentType="image/jpeg"/>
  <Override PartName="/ppt/media/image4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9497-21BA-40A0-9D6C-54ECCA0C760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转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3C9-2A5D-465E-99EC-2E6A8432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0CB-4C47-45FC-A158-4CD382A8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172-491B-44C0-8EE9-DDC3C7F9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984-BB1B-42D5-98F3-0DB8F87C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CB6-2347-4465-BD6C-0C1F5E45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2CD-6B07-469B-957B-78F1612C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858-FBC2-4990-921C-EB62EF5E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533-6275-4897-8F44-56B68231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C03-3E85-49E6-AE89-415E774F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F9D-A362-47A7-8588-B3BA881E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F5A-6A97-4A05-90D3-7531563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EAB-47A3-437D-977B-5E61E48D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FD73-F60B-4425-BB45-9F6FEF6264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76720" y="762120"/>
            <a:ext cx="214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NSE Book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58640" y="129528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Module9 Uni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813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want to visit  the UN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visit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visit the Great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o you want to visit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3430440"/>
            <a:ext cx="4572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9160" y="1066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1337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o you want to visit…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谈论旅游打算并介绍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0"/>
            <a:ext cx="756288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want to guess my favourit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438280" y="914400"/>
            <a:ext cx="6705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’s 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</a:rPr>
              <a:t>one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my favourite place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’s a very important buil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’s a big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’s in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It wants to make peac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What is it?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1371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其中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95640" y="98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t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UN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643280" y="1557360"/>
            <a:ext cx="433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557360"/>
            <a:ext cx="57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2205000"/>
            <a:ext cx="230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U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205000"/>
            <a:ext cx="24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62520" y="3048120"/>
            <a:ext cx="3047760" cy="243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2637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联合的               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联合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1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1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内部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内部2"/>
          <p:cNvPicPr/>
          <p:nvPr/>
        </p:nvPicPr>
        <p:blipFill>
          <a:blip r:embed="rId3"/>
          <a:stretch/>
        </p:blipFill>
        <p:spPr>
          <a:xfrm>
            <a:off x="0" y="0"/>
            <a:ext cx="9515520" cy="713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内部4"/>
          <p:cNvPicPr/>
          <p:nvPr/>
        </p:nvPicPr>
        <p:blipFill>
          <a:blip r:embed="rId4"/>
          <a:stretch/>
        </p:blipFill>
        <p:spPr>
          <a:xfrm>
            <a:off x="0" y="0"/>
            <a:ext cx="951552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811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Do you want to know more about the UN buil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1240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Where does Daming want to vis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and repeat, then 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29528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)   Where is the UN buil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It’s in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)  What does the UN building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It’s beautiful. It’s very big and very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 China in the U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Yes. China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one of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 the 193 member states in the 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one of---     +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名词复数形式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之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991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is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ne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193 member states in the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0040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Miss Jiang is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one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the beautiful______(teach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am is one of our ______(frie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7749" t="5806" r="3874" b="10246"/>
          <a:stretch/>
        </p:blipFill>
        <p:spPr>
          <a:xfrm>
            <a:off x="3581280" y="1523880"/>
            <a:ext cx="1084320" cy="76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33720" y="1523880"/>
            <a:ext cx="915840" cy="72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34120" y="1600200"/>
            <a:ext cx="1052280" cy="73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76720" y="3809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宋体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9320" y="4343040"/>
            <a:ext cx="8991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es the UN wan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702" t="58159" r="0" b="15361"/>
          <a:stretch/>
        </p:blipFill>
        <p:spPr>
          <a:xfrm>
            <a:off x="0" y="304920"/>
            <a:ext cx="9144000" cy="236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38880" y="18288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209680"/>
            <a:ext cx="4343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rcRect l="9912" t="7459" r="10811" b="43341"/>
          <a:stretch/>
        </p:blipFill>
        <p:spPr>
          <a:xfrm>
            <a:off x="7162920" y="533520"/>
            <a:ext cx="17524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380880"/>
            <a:ext cx="35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he Five-finger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192480"/>
            <a:ext cx="5029200" cy="3665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9145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N wants to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ake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Times New Roman"/>
              </a:rPr>
              <a:t>ea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in the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worl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181480" y="17524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rial"/>
                <a:ea typeface="宋体"/>
              </a:rPr>
              <a:t>/i: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743200" y="25146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pl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  <a:ea typeface="宋体"/>
              </a:rPr>
              <a:t>ea</a:t>
            </a: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641920" y="25146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t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  <a:ea typeface="宋体"/>
              </a:rPr>
              <a:t>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419720" y="25146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m</a:t>
            </a:r>
            <a:r>
              <a:rPr b="1" i="1" lang="en-US" sz="3600" spc="-1" strike="noStrike">
                <a:solidFill>
                  <a:srgbClr val="6600ff"/>
                </a:solidFill>
                <a:latin typeface="Arial"/>
                <a:ea typeface="宋体"/>
              </a:rPr>
              <a:t>ea</a:t>
            </a:r>
            <a:r>
              <a:rPr b="1" lang="en-US" sz="3600" spc="-1" strike="noStrike">
                <a:solidFill>
                  <a:srgbClr val="1c1c1c"/>
                </a:solidFill>
                <a:latin typeface="Arial"/>
                <a:ea typeface="宋体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123"/>
          <p:cNvPicPr/>
          <p:nvPr/>
        </p:nvPicPr>
        <p:blipFill>
          <a:blip r:embed="rId2"/>
          <a:srcRect l="0" t="0" r="0" b="22042"/>
          <a:stretch/>
        </p:blipFill>
        <p:spPr>
          <a:xfrm>
            <a:off x="0" y="0"/>
            <a:ext cx="4800600" cy="396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876560" y="380880"/>
            <a:ext cx="42670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n’t pea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ople nee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UN wants to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ke pe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 the worl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1" descr="W020090609489080437969"/>
          <p:cNvPicPr/>
          <p:nvPr/>
        </p:nvPicPr>
        <p:blipFill>
          <a:blip r:embed="rId3"/>
          <a:stretch/>
        </p:blipFill>
        <p:spPr>
          <a:xfrm>
            <a:off x="0" y="0"/>
            <a:ext cx="4800600" cy="3962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战乱"/>
          <p:cNvPicPr/>
          <p:nvPr/>
        </p:nvPicPr>
        <p:blipFill>
          <a:blip r:embed="rId4"/>
          <a:stretch/>
        </p:blipFill>
        <p:spPr>
          <a:xfrm>
            <a:off x="0" y="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516960" y="2133720"/>
            <a:ext cx="27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8088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Haven’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we got buildings like this in China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097880" y="2209680"/>
            <a:ext cx="31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否定疑问句 –— 根据实际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362320" y="91440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我们中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像这样的建筑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0948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148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是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没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0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Do you want to fill in the bla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UN building is a very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importa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uilding in New York. It’s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beautifu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It’s very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big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ta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It’s about 167 metres high. The UN building was built in 194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UN wants to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make peac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worl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y countries are in the UN. China is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one o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193 member states in the UN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762120"/>
            <a:ext cx="5651640" cy="74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beautiful,   big,    important,    tall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make  peace,    world,    one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2004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574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666880"/>
            <a:ext cx="1447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74320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2743200"/>
            <a:ext cx="533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411480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411480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952880"/>
            <a:ext cx="1295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20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20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449568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53341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495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2743200"/>
            <a:ext cx="685800" cy="457200"/>
          </a:xfrm>
          <a:prstGeom prst="rect">
            <a:avLst/>
          </a:pr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7848720" cy="533520"/>
          </a:xfrm>
          <a:prstGeom prst="rect">
            <a:avLst/>
          </a:pr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14800"/>
            <a:ext cx="1371600" cy="457200"/>
          </a:xfrm>
          <a:prstGeom prst="rect">
            <a:avLst/>
          </a:pr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610480" y="640080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ant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isit the UN buil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U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ants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ke peace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ant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o into the buil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5300640"/>
            <a:ext cx="5689800" cy="936720"/>
          </a:xfrm>
          <a:prstGeom prst="wedgeEllipseCallout">
            <a:avLst>
              <a:gd name="adj1" fmla="val -15152"/>
              <a:gd name="adj2" fmla="val -108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ant t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达想要做某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面接动词原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t’s read them again and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981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宋体"/>
              </a:rPr>
              <a:t>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宋体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343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宋体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240" y="22860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want       B.wants      C.want to      D.want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I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sit  the  Chinatown this sum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Sam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ake some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W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some banan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4114800" y="380880"/>
            <a:ext cx="1143000" cy="685800"/>
          </a:xfrm>
          <a:prstGeom prst="ellipse">
            <a:avLst/>
          </a:prstGeom>
          <a:noFill/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80880"/>
            <a:ext cx="899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o you want to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play / playing) the fl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选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00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3886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572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64008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want to go to---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521080" cy="490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838080"/>
            <a:ext cx="8353440" cy="931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in Beijing. It’s very long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more than two thousand years old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410080"/>
            <a:ext cx="8353440" cy="855720"/>
          </a:xfrm>
          <a:prstGeom prst="rect">
            <a:avLst/>
          </a:prstGeom>
          <a:solidFill>
            <a:srgbClr val="ff66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an important building in Americ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beautiful, big and tall.It’s 167m hig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981080"/>
            <a:ext cx="8610480" cy="703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a beautiful park in Dalian.There is a big football building inside it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95480"/>
            <a:ext cx="8353440" cy="398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an island. There is  the Five Finger Mountains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459640" y="0"/>
            <a:ext cx="684360" cy="68436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8782200" y="620640"/>
            <a:ext cx="361440" cy="6237000"/>
            <a:chOff x="8782200" y="620640"/>
            <a:chExt cx="361440" cy="6237000"/>
          </a:xfrm>
        </p:grpSpPr>
        <p:sp>
          <p:nvSpPr>
            <p:cNvPr id="178" name=""/>
            <p:cNvSpPr/>
            <p:nvPr/>
          </p:nvSpPr>
          <p:spPr>
            <a:xfrm>
              <a:off x="8782200" y="698760"/>
              <a:ext cx="361440" cy="615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82200" y="620640"/>
              <a:ext cx="361440" cy="231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8854920" y="909720"/>
            <a:ext cx="216000" cy="591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581280"/>
            <a:ext cx="8424720" cy="70308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in New Yor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are lots of Chinese shops and restaurant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1052640"/>
            <a:ext cx="2303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Great W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95680"/>
            <a:ext cx="8424720" cy="703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one of our English teachers’ flat.It’s near to our Primary Schoo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2819520"/>
            <a:ext cx="11523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ain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733920"/>
            <a:ext cx="16556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hinat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876920"/>
            <a:ext cx="25909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iss Jiang’s ho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5715000"/>
            <a:ext cx="25923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UN buil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286000"/>
            <a:ext cx="216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Labor P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00400" y="0"/>
            <a:ext cx="1600200" cy="144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657600"/>
            <a:ext cx="91440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a (an) very ___________ building in ___________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  ________and________.   ________________.I want to go there with ____,I want to go there by _______. And I want to _______________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167652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1371600"/>
            <a:ext cx="19796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宋体"/>
              </a:rPr>
              <a:t>The Great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ina, 2000  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km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523880"/>
            <a:ext cx="2303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The Empire State Build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US, 400m hig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371600"/>
            <a:ext cx="20890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宋体"/>
              </a:rPr>
              <a:t>The UN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mer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peac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238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676520" y="53352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Homework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447920"/>
            <a:ext cx="75438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必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背写核心词、功能句，背诵课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完成一篇有关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UN building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小练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选做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向家人、朋友介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UN building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或介绍自己的假期计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049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the Ming To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 rot="21183600">
            <a:off x="836280" y="4471560"/>
            <a:ext cx="44956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!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38080" y="1143000"/>
            <a:ext cx="79250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ne world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，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one dream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(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一个世界，同一个梦想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he world needs peace.We love peace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10080" y="3657600"/>
            <a:ext cx="26672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9144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China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838080"/>
            <a:ext cx="35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ba3"/>
                </a:solidFill>
                <a:latin typeface="Comic Sans MS"/>
                <a:ea typeface="宋体"/>
              </a:rPr>
              <a:t>the Summer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83808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ba3"/>
                </a:solidFill>
                <a:latin typeface="Comic Sans MS"/>
                <a:ea typeface="宋体"/>
              </a:rPr>
              <a:t>the Whit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7621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ba3"/>
                </a:solidFill>
                <a:latin typeface="Comic Sans MS"/>
                <a:ea typeface="宋体"/>
              </a:rPr>
              <a:t>the Kite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7621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he Mountain 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7621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the Stoneh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06:48:11Z</dcterms:created>
  <dc:creator>user</dc:creator>
  <dc:description/>
  <dc:language>en-US</dc:language>
  <cp:lastModifiedBy>user</cp:lastModifiedBy>
  <dcterms:modified xsi:type="dcterms:W3CDTF">2015-12-22T06:48:15Z</dcterms:modified>
  <cp:revision>1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