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0.jpeg" ContentType="image/jpeg"/>
  <Override PartName="/ppt/media/image19.png" ContentType="image/png"/>
  <Override PartName="/ppt/media/image21.png" ContentType="image/png"/>
  <Override PartName="/ppt/media/chimes.wav" ContentType="audio/x-wav"/>
  <Override PartName="/ppt/media/image16.png" ContentType="image/png"/>
  <Override PartName="/ppt/media/image24.jpeg" ContentType="image/jpeg"/>
  <Override PartName="/ppt/media/image15.png" ContentType="image/png"/>
  <Override PartName="/ppt/media/image7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9.jpeg" ContentType="image/jpeg"/>
  <Override PartName="/ppt/media/image11.jpeg" ContentType="image/jpeg"/>
  <Override PartName="/ppt/media/image17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0.gif" ContentType="image/gif"/>
  <Override PartName="/ppt/media/image1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18.png" ContentType="image/png"/>
  <Override PartName="/ppt/media/type.wav" ContentType="audio/x-wav"/>
  <Override PartName="/ppt/media/image6.jpeg" ContentType="image/jpeg"/>
  <Override PartName="/ppt/media/image3.gif" ContentType="image/gif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28.jpeg" ContentType="image/jpeg"/>
  <Override PartName="/ppt/media/image27.gif" ContentType="image/gif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CFFD-5668-4139-AD1A-534E986B5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D80C-0997-43A1-BD01-8BB1CD9C9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DCA5-F3C1-44F1-910D-454308162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7401-3BB8-4247-90AA-8CA9DA3CE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9783-7143-4DCF-8203-0A3E06FAA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05DA-F7C9-4AE0-A50D-410943507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8D54-F337-45D6-96C1-22F2750CD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295A-2DA6-4696-B2F8-28CA9F81E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32F4-5A24-420F-81EA-8000D277F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FB26-33DD-4148-B25B-449E6DE0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2D89-3151-4DD5-A613-FF49C383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C4FA-3BE6-4411-B51D-65910CDF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41C44-092A-4633-9104-F75DBDC10C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2.jpeg"/><Relationship Id="rId3" Type="http://schemas.openxmlformats.org/officeDocument/2006/relationships/image" Target="../media/image27.gif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3.jpeg"/><Relationship Id="rId3" Type="http://schemas.openxmlformats.org/officeDocument/2006/relationships/image" Target="../media/image27.gif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4.jpeg"/><Relationship Id="rId3" Type="http://schemas.openxmlformats.org/officeDocument/2006/relationships/image" Target="../media/image27.gif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5.jpeg"/><Relationship Id="rId3" Type="http://schemas.openxmlformats.org/officeDocument/2006/relationships/image" Target="../media/image27.gif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6.jpeg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03280" y="981000"/>
            <a:ext cx="653436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Times New Roman"/>
              </a:rPr>
              <a:t>Module 10 Unit 2</a:t>
            </a:r>
            <a:endParaRPr b="1" i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Times New Roman"/>
              <a:ea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2971800"/>
            <a:ext cx="800100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Times New Roman"/>
              </a:rPr>
              <a:t>You shouldn't be late.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ShockwaveFlash2"/>
          <p:cNvGraphicFramePr/>
          <p:nvPr/>
        </p:nvGraphicFramePr>
        <p:xfrm>
          <a:off x="611280" y="333360"/>
          <a:ext cx="7993080" cy="590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" name="ShockwaveFlash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333360"/>
                    <a:ext cx="7993080" cy="59054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8394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1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Don’t sing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4724280"/>
            <a:ext cx="75438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Times New Roman"/>
              </a:rPr>
              <a:t>shouldn't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 sing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04920" y="762120"/>
            <a:ext cx="29718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81280" cy="2590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486400" y="0"/>
            <a:ext cx="3657600" cy="25909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0" y="4267080"/>
            <a:ext cx="3581280" cy="2590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5486400" y="4343400"/>
            <a:ext cx="3657600" cy="25146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059280" y="2565360"/>
            <a:ext cx="38890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on’t write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61760" y="4267080"/>
            <a:ext cx="78483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0" lang="en-US" sz="6600" spc="-1" strike="noStrike" u="sng">
                <a:solidFill>
                  <a:srgbClr val="000000"/>
                </a:solidFill>
                <a:uFillTx/>
                <a:latin typeface="Arial"/>
              </a:rPr>
              <a:t>shouldn't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write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3733920" cy="35812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8001000" y="5943600"/>
            <a:ext cx="5335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Don’t run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153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8000" spc="-1" strike="noStrike" u="sng">
                <a:solidFill>
                  <a:srgbClr val="000000"/>
                </a:solidFill>
                <a:uFillTx/>
                <a:latin typeface="Times New Roman"/>
              </a:rPr>
              <a:t>shouldn't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 run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3657600" cy="3429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8229600" y="58672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Don’t talk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09480" y="38862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8000" spc="-1" strike="noStrike" u="sng">
                <a:solidFill>
                  <a:srgbClr val="000000"/>
                </a:solidFill>
                <a:uFillTx/>
                <a:latin typeface="Times New Roman"/>
              </a:rPr>
              <a:t>shouldn't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 talk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09480" y="457200"/>
            <a:ext cx="3505320" cy="3048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8001000" y="57913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n’t fe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 the pand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shouldn't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feed the panda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62120" y="609480"/>
            <a:ext cx="3733560" cy="3048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8001000" y="5715000"/>
            <a:ext cx="60948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You should stop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stop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41767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66680" y="2133720"/>
            <a:ext cx="7105680" cy="138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It's show time.</a:t>
            </a:r>
            <a:endParaRPr b="1" i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514600" y="3048120"/>
            <a:ext cx="377352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Let’s say a chant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Look left, look right, look left aga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 car is coming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So start aga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Look left, look right, look left, now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Nothing is com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Let’s cross now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914400" y="457200"/>
            <a:ext cx="11523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In the classroom/ hospital/ supermarket/ library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933ff"/>
                </a:solidFill>
                <a:latin typeface="Arial"/>
              </a:rPr>
              <a:t>You should 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933ff"/>
                </a:solidFill>
                <a:latin typeface="Arial"/>
              </a:rPr>
              <a:t>You shouldn’t 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990720" y="5257800"/>
            <a:ext cx="3876480" cy="138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hospital</a:t>
            </a:r>
            <a:endParaRPr b="1" i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3333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143000" y="5410080"/>
            <a:ext cx="6705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supermarket</a:t>
            </a:r>
            <a:endParaRPr b="1" i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523880" y="5334120"/>
            <a:ext cx="5096160" cy="13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classroom</a:t>
            </a:r>
            <a:endParaRPr b="1" i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614600" y="2751120"/>
            <a:ext cx="5914800" cy="13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Times New Roman"/>
              </a:rPr>
              <a:t>Thank you!</a:t>
            </a:r>
            <a:endParaRPr b="1" i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304920"/>
            <a:ext cx="4716360" cy="5943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788000" y="304920"/>
            <a:ext cx="4356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33ff"/>
                </a:solidFill>
                <a:latin typeface="Times New Roman"/>
              </a:rPr>
              <a:t>You should …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28600" y="1600200"/>
            <a:ext cx="4343400" cy="3341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724280" y="1600200"/>
            <a:ext cx="39625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33ff"/>
                </a:solidFill>
                <a:latin typeface="Times New Roman"/>
              </a:rPr>
              <a:t>You shouldn’t …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57200" y="1752480"/>
            <a:ext cx="3733920" cy="3048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495680" y="1752480"/>
            <a:ext cx="38163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41148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5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39640" y="476280"/>
            <a:ext cx="6486480" cy="94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99"/>
                </a:solidFill>
                <a:latin typeface="Times New Roman"/>
              </a:rPr>
              <a:t>Memory challenge</a:t>
            </a:r>
            <a:endParaRPr b="1" i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99"/>
              </a:solidFill>
              <a:latin typeface="Times New Roman"/>
              <a:ea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11280" y="2565360"/>
            <a:ext cx="797220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Times New Roman"/>
              </a:rPr>
              <a:t>listen to the teacher</a:t>
            </a:r>
            <a:endParaRPr b="1" i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Times New Roman"/>
              <a:ea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2514600"/>
            <a:ext cx="7620120" cy="13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Times New Roman"/>
              </a:rPr>
              <a:t>do homework</a:t>
            </a:r>
            <a:endParaRPr b="1" i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Times New Roman"/>
              <a:ea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2438280"/>
            <a:ext cx="81532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99"/>
                </a:solidFill>
                <a:latin typeface="宋体"/>
              </a:rPr>
              <a:t>play basketball</a:t>
            </a:r>
            <a:endParaRPr b="1" i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ff99"/>
              </a:solidFill>
              <a:latin typeface="宋体"/>
              <a:ea typeface="宋体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219320" y="2590920"/>
            <a:ext cx="6553080" cy="138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ff"/>
                </a:solidFill>
                <a:latin typeface="Times New Roman"/>
              </a:rPr>
              <a:t>make noise</a:t>
            </a:r>
            <a:endParaRPr b="1" i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3333ff"/>
              </a:solidFill>
              <a:latin typeface="Times New Roman"/>
              <a:ea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0" y="2590920"/>
            <a:ext cx="8934480" cy="138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tidy the classroom</a:t>
            </a:r>
            <a:endParaRPr b="1" i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2514600"/>
            <a:ext cx="7010640" cy="138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read books</a:t>
            </a:r>
            <a:endParaRPr b="1" i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04760" y="2743200"/>
            <a:ext cx="903924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sleep in the classroom</a:t>
            </a:r>
            <a:endParaRPr b="1" i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04920" y="2590920"/>
            <a:ext cx="8381880" cy="138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play basketball</a:t>
            </a:r>
            <a:endParaRPr b="1" i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3" dur="1" fill="hold"/>
                                  <p:tgtEl>
                                    <p:spTgt spid="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00"/>
                </a:solidFill>
                <a:latin typeface="Times New Roman"/>
              </a:rPr>
              <a:t>You</a:t>
            </a:r>
            <a:r>
              <a:rPr b="0" lang="en-US" sz="7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7200" spc="-1" strike="noStrike">
                <a:solidFill>
                  <a:srgbClr val="00cc00"/>
                </a:solidFill>
                <a:latin typeface="Times New Roman"/>
              </a:rPr>
              <a:t>should</a:t>
            </a: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/</a:t>
            </a:r>
            <a:r>
              <a:rPr b="0" lang="en-US" sz="7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shouldn'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      </a:t>
            </a: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listen to the teacher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               </a:t>
            </a: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do  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               </a:t>
            </a: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play footbal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               </a:t>
            </a: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sleep in the classro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               </a:t>
            </a: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tidy the classro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               </a:t>
            </a: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read b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               </a:t>
            </a: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play basketball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               </a:t>
            </a: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make no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               </a:t>
            </a: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tidy the classro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第八小学五年五班班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尊敬老师，团结同学，关心他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按时上学，不迟到，不早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遵守课堂纪律，专心听讲，积极发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按时完成作业，字迹工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放学时排队出校门，不在队伍中追                                     逐打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ShockwaveFlash2"/>
          <p:cNvGraphicFramePr/>
          <p:nvPr/>
        </p:nvGraphicFramePr>
        <p:xfrm>
          <a:off x="539640" y="260280"/>
          <a:ext cx="8136000" cy="583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" name="ShockwaveFlash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260280"/>
                    <a:ext cx="8136000" cy="58309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7956720" y="5950080"/>
            <a:ext cx="287280" cy="71280"/>
          </a:xfrm>
          <a:prstGeom prst="rightArrow">
            <a:avLst>
              <a:gd name="adj1" fmla="val 50000"/>
              <a:gd name="adj2" fmla="val 1007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2824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5" dur="2824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01:50:57Z</dcterms:created>
  <dc:creator>微软用户</dc:creator>
  <dc:description/>
  <dc:language>en-US</dc:language>
  <cp:lastModifiedBy>china</cp:lastModifiedBy>
  <dcterms:modified xsi:type="dcterms:W3CDTF">2009-12-09T01:15:30Z</dcterms:modified>
  <cp:revision>63</cp:revision>
  <dc:subject/>
  <dc:title>幻灯片 1</dc:title>
</cp:coreProperties>
</file>